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LASER.WAV" ContentType="audio/x-wav"/>
  <Override PartName="/ppt/media/image4.wmf" ContentType="image/x-wmf"/>
  <Override PartName="/ppt/media/LATIGO.WAV" ContentType="audio/x-wav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0" y="0"/>
            <a:ext cx="6858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ldImg"/>
          </p:nvPr>
        </p:nvSpPr>
        <p:spPr>
          <a:xfrm>
            <a:off x="1144440" y="85212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8" name="Rectangle 4"/>
          <p:cNvSpPr/>
          <p:nvPr/>
        </p:nvSpPr>
        <p:spPr>
          <a:xfrm>
            <a:off x="6081840" y="937728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2C30-4EA2-4CD7-9FE6-96FF76CB155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4440" y="85248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jercicios 1 a 5 (página 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4440" y="85248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jercicios 1 a 5 (página 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14A-F69D-4FF6-B388-88658AC0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F26B-99A7-459A-A554-BD938E83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05DDE-B347-4766-9688-FF631532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EB007-23B1-4C83-99B3-8B7C2F81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F15DC-7B4C-4997-9A19-3063F7C5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8897A-0039-4021-9569-79179FB8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3DC8D-0E52-4BE8-B662-A332D373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E5537-BCDF-49E1-AF52-D414B57D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ED9A0-DE7C-4B46-A13E-33BA591D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690A0-5C59-434F-9FD4-E595B7E2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D0D64-D3A7-4EEC-832C-46954367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343F8-D32E-4E7E-B497-38450601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65C-0232-4B39-84EE-95242E9F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D8E07-720C-4433-BF58-C4CD6D28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0A1A8-495C-40CF-A093-FFA545ED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638FF-09BE-4D2C-9084-56B1E541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28012-102C-42B3-A434-7A0A20C1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BEBE2-03FD-4606-9402-2C1D2361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F3298-DD7B-4D17-B9D0-144860DD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E403C-CAA8-40A9-B412-34831F10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E6484-FA24-43EB-A0A8-86398E0F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466A7-B3B6-4DFB-98E6-0ADE749B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985C4-934D-4F1F-8BE7-949EEC53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4E99-5728-444D-9054-801E1672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1F1F8-E04F-4B28-8227-BC401C1C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0B34D-0982-41D0-8262-457D7495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CD07C-85BD-476C-ABBF-9A998008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BF50C-E080-4FC1-BA73-13A04CF3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7BC64-33AD-445E-934F-CD4799D2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36FF5-127D-4ED5-BA04-52D7F7F0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942D0-0AF4-4E4F-B55F-5F885CB3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71A46-1EF4-48EF-9C25-349E9AF1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B72BA-B586-4A73-8659-9DDD172C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3A100-00F2-42D8-B98D-C1636056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C86D-662E-47CB-B4A3-0C657C60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F9146-FDB3-407B-87F4-4493A0DD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76687-ADBC-465B-88B7-B841CB9E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0A012-EF4C-439E-90D8-653C6E56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80B43-DED1-486B-8481-B4B431FE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E75E8-5540-4449-91CD-EF4597A2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BE409-67A5-491C-9F12-5AD6EF0D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988FC-FFBA-47F5-A3F6-0CC8794E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F264B-97CA-4590-A60D-277C9337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7EDEC-F296-479F-A88E-FE365AAA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D9540-20D8-4F58-B296-B4ED130C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A8B2-4876-48EE-AFD1-B8B5E981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15C19-C33B-4CE2-A999-5AB7D780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88491-DC2C-4A20-952B-C8207071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0574A-D137-4A53-8C91-E1D36165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6E264-A954-45CD-B043-41EF2492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0D952-1B81-41A7-9BE9-2E9A5E8B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E1657E-3726-4633-AD17-F21B7452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C3ECA-5026-46C9-9F3F-D64FDEDA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1E0747-8AC6-45D9-931F-250092C0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7C5FD-BD54-442A-A4C7-F1B33E22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67F1A-0EF9-4594-B7C5-8A8AD086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9979-E314-4BAC-BB7D-7B546D49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43E5C1-6954-410D-9EDC-4904AF59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A467F2-D026-4C22-8DDE-EEDD3362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DF17D-BB85-4238-AA1D-4B8D35F1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EB9DD0-01E3-415A-9B72-F7145D01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13C611-5640-4AD4-9CF8-8457900B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DD234-3B2C-41D0-A0B6-DF076DD0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8E590-53EC-46E3-BFE4-CA08037C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5A34BD-7D3D-47D5-A12D-57B42591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7C53B8-C0A7-4DEA-911A-100200B5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A20253-AAD0-4AEF-8279-7697188A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234E-19B5-44EB-9FC9-00AFE490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6C3F19-8C5E-4E87-B219-517A5C1B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0F908D-BA11-4B80-8A91-E2A8D306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792DD7-40C1-4294-A063-52BFFCEB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A73E20-D982-42CF-8993-C9C85ACD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41FF00-30B6-4785-B625-0350FA97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79332C-3D89-4758-8D8A-EE02AC5D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448F4F-A4C7-45B7-9934-CD958982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797AAF-3CAA-45D0-8AC6-B131A02F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79DFC9-41E3-4642-BE56-8742B322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6865BA-7311-45B6-8551-4F3CE572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827E-C346-4F2F-9F08-A15C8AC5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3FB8E4-4417-4329-AAF7-93C99A03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4BDA9E-9EF5-42C7-AC37-5C87C117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DA5E94-F948-4139-B9F1-3B29E378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124E2A-949B-4C23-977A-D5F2EC1E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BA0FA7-0A7E-4CA0-BAE4-FD0BC7DD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2C3B0A-7F3F-4CF2-AE05-9C2B5CBE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89FD80-B204-4969-852A-D7BAA285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3AA00C-5A73-4CDD-8BB9-93810E3A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B28FA4-6AC8-4DC9-BA0D-7DFEEFFA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0D1A94-1D75-471C-B959-754C411B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D248-ACAD-4CC7-940C-04955C37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5C7C7C-ACBF-40C6-8D79-3D2EC869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887F68-0960-4413-9562-5B5FB2A8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376B0F-AC21-43EE-9072-A0885533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5CC99B-6525-42AD-B307-95B814D6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93830D-DF45-442C-9DD7-13C2275A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5D1578-F264-4D7B-AA87-D4B27B45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F676C6-4A31-4725-A1FD-86D9A7D7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8B5AB0-D0A7-4183-AA7E-DF698930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0440FB-6E6F-4DC6-BF55-182A5570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2CB2B5-3D7E-4CF4-B1BC-20EA2FD5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6F4E-797D-4282-B429-8493E88A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90E071-C92A-42B2-A8E9-AE09E78C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ED5879-0212-4EC0-8B87-0E1CC9F9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0C6A80-7326-4143-A36C-57F2E1BB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8165F7-6663-4359-9D12-46512B9B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F6BFDF-1C0D-4041-963A-0C1DDEFE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C5407D-3100-49D1-9618-6CFDAE36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CE90CA-7F2E-4A47-8FF0-42989933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89D0CE-753D-488F-A0DC-D0B2D952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520F63-B74F-4170-B9DD-081188A5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AFD56A-C284-4D3A-AAC2-FC804087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C54A-DFE8-44FF-9C9E-F0329497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A2B0-7723-46DE-9DD0-9C842CF5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070A59-EE11-42C5-8918-6CA5204D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5887AC-06DC-43AE-BBED-ABBC0C25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2A8B58-2374-4120-8862-7FA1D561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8267C9-6C4A-4589-BF1B-53029697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CC73CD-C743-4766-838F-7B167288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86D494-8E39-4A0F-8331-A54D8963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CEA310-8871-4D2D-9C04-EEC29789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89E66E-A303-4909-8585-4289DB02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110F64-AD79-46DF-AB4E-B1913565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4A1063-9820-43D8-8C37-9381B6FF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34C0-9015-4E86-A19F-91042FE4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EFFCE0-4570-4B30-87F2-D4816E49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889527-EFA1-4965-B89A-FA2E7EEB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FD32F9-2A51-461E-9233-0DD023C0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F1A961-D889-4238-959E-47B6C245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12B827-E585-4F9C-83A5-EF4A703A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8AEFD8-4843-45DD-91A0-68488F8C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0A4797-C6DD-4485-949C-75294F4E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C258-F3FA-4F78-AB15-BD0BB313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A7C0-B51B-4411-B394-49C8FCFB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213A-1716-46E2-B73D-F7329956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0BB5C-1ADD-4AD3-9ECC-D06AFA44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4E59E-44ED-4AE6-97F8-4556E1FD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3E10D-DFCE-4264-92B7-570D5C0E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E3BB9-3371-4F5B-8DA8-11A89899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5C276-549F-4478-BD4C-EFD62626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CE5D-723F-431C-B9BE-B476C59C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49F49-7785-451C-82C2-BEA2F073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05ED0-7681-4FBD-8311-4707A64D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4833E-AF36-497B-8110-A820E451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38590-281B-4804-AC5F-0BEF3227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D9F6D-1BB9-442A-9AF9-E66BEC81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96433-9909-4D9F-AC12-55EBD441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C8667-4771-4650-BEC0-F19D47D5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90C9C-713C-4B82-B4B6-0544E170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78AEB-2B85-46C0-8360-6C957DC8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54A8C-DF7C-4216-9791-B0769C2F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8D42-DCCF-45D9-BD86-FA6A86A0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53CDF-42A4-44F9-B939-DF09C5FB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25B99-A56A-4820-B962-949C9B40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F8280-9712-4898-9702-E222CDF9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0F301-59AC-4F1F-AAE7-618F859B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062B6-92D1-4A60-8915-D098B268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FB90B-C270-4978-A03A-FF9F2222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F1B38-E50C-4867-AA62-55B01D10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B51BE-5727-4A15-AA66-E9656784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BAA87-A26D-4363-B171-9F153F19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18826-C976-4179-AC53-914C90E1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F276-70BB-4C3A-9DBD-9096920F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841AB-7BB3-427A-B544-7DD43BB9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915D5-17C1-4AEC-9EDE-D5D6FB72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ECF73-C892-4D54-A4F2-9F562626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81324-8962-474D-B706-B38F78C2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7AF45-05F8-496D-8338-0808AA09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5F020-A884-4B12-9F06-03BDCE13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D317C-2B85-4CA1-8198-4ADF395B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3E755-0EFB-4039-952E-82CA2DDF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C6B39-FD66-43F8-A6AB-05704615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E4418-F7A0-4199-9E41-287156D3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29F0-E3C3-4F3C-A64C-ECA8BCCC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1B500-528E-4860-B5C6-8BFF7ADB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4BF78-1D99-4C1B-9B9E-5ACD363A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6347C-3196-41EA-96D4-9234CDE2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F23CD-13AA-4F05-8889-EAE57D5D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7C75A-A0DA-4A91-BAF5-15B92F08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2383D-2EAD-45CA-A285-2B53C3E3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7BF1E-7B8B-4BD9-89D4-D87EAF4A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E35DB-7EA2-4EAF-BC12-E46D9485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DDC85-BB4B-4068-8E50-7B103BDF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ED10C-EC6A-438E-84A8-21EDBF01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2E07-2135-4A0A-8FF3-48EF5F5C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811FB-DE96-43B6-AB09-7C27B83E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9EEB5-36AF-4E8D-959E-24724D95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79542-55EB-4C9D-8391-528607B0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C7FDC-3A6B-4BAD-AA3D-7B9AB965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D0762-8AD8-41A4-8EAB-A1BBF836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A93BB-3FBE-4F67-8813-4F71B57C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D470E-FE9A-44E6-B7AB-EA70CD3D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47889-EB98-4063-BF46-71C24B40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9B32F-025A-4289-AA8A-B4BB5970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3D049-0489-4C5C-86FB-BF303FAB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471A-5CC9-4003-B6ED-FFC3B055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EFD20-B4E6-4DB7-B001-D77FB221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5124F-EB02-4FA7-81B7-77581FE0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47C0D-A9A9-4A09-BF3A-6C0D9CB4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8B25A-588E-4DA1-A551-1EB43334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56DEC-ECBB-4A5B-A19B-4E5AE34F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BC77A-743C-4427-BEC0-90CB277D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844E0-1037-4454-B725-83F1C934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790A4-828B-4FED-8B81-A55FB085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BBE26-9E0F-40E7-BC30-CF733823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F4C0D-CAF7-45C6-A0D7-C18AA084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65F6-7EEA-40B9-AC08-9053BB3B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71067-0721-4943-ABEF-962B7055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037E3-B55D-4232-AA6B-76683757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DE5D0-DB05-4EE7-B69D-211ACC0C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57E34-3918-430B-84C7-6B49C9E4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A5998-29DA-4CF6-AC02-1009A520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94E20-66FD-42D4-A037-1E4C06A6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0DA49-6F42-4252-8FA2-3F90967A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C52B8-1876-447E-8AFE-8AA140E7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4816E-0733-4C94-90C2-10522407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696CD-5D51-4AD8-98DC-8BAA1AE7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1AFC-CD16-4DA6-9A68-C85923724C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FA1F-6472-41A8-B2F1-1B3E0FD61A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5B53-DBB1-4362-B7A7-A133585B06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5A47-E2DC-4130-9890-5DEEEFF9E1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2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10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13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493D-C95D-4B78-96E7-FE6D17E448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DF61-C181-4168-A1B9-1973395FED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219F-0A6C-4A94-8D68-C9ACAA1DC0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BF4C-3748-4AEA-A9D1-68CFCE5F71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87A2-E928-4C10-81DA-5EC4949240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00BE-53B8-4A40-9159-0A4EB897E9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3A1C-A43E-46C0-B3A2-6CF76D5E96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A014-2E28-493E-BABB-B9E1576E08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8282-FD7A-44E6-B1A7-9512299C03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D2D7-DD4A-4CCB-B66D-55267854B6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C96A-C3AD-40C7-BC55-DF9B4BE26E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EBAD-672F-47F3-B04B-95052DB766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2344-980C-4437-B887-DF262B07A0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7FE6-E6B3-4886-BB5B-39E44AED99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Tw Cen MT"/>
              </a:rPr>
              <a:t>TERMOQUÍMICA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ALOR A PRESIÓN CONSTANTE (Q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159840" indent="-159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LA MAYORÍA DE LOS PROCESOS QUÍMICOS OCURREN A PRESIÓN CONSTANTE, NORMALMENTE LA ATMOSFÉRIC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59840" indent="-159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SI P = CT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W = – P ·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V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59840" indent="-159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U = 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– P ·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59840" indent="-159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– 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= 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–  P ·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–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59840" indent="-159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P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+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+ P ·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=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+ P ·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479880" indent="-15984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                  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    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(ENTALPÍA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479880" indent="-15984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0" name="AutoShape 6"/>
          <p:cNvSpPr/>
          <p:nvPr/>
        </p:nvSpPr>
        <p:spPr>
          <a:xfrm rot="16200000">
            <a:off x="3948840" y="5074200"/>
            <a:ext cx="381240" cy="1439640"/>
          </a:xfrm>
          <a:custGeom>
            <a:avLst/>
            <a:gdLst>
              <a:gd name="textAreaLeft" fmla="*/ 243720 w 381240"/>
              <a:gd name="textAreaRight" fmla="*/ 381600 w 381240"/>
              <a:gd name="textAreaTop" fmla="*/ 43560 h 1439640"/>
              <a:gd name="textAreaBottom" fmla="*/ 139608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48"/>
                  <a:pt x="10800" y="2095"/>
                </a:cubicBezTo>
                <a:lnTo>
                  <a:pt x="10800" y="8705"/>
                </a:lnTo>
                <a:cubicBezTo>
                  <a:pt x="10800" y="9753"/>
                  <a:pt x="5400" y="10800"/>
                  <a:pt x="0" y="10800"/>
                </a:cubicBezTo>
                <a:cubicBezTo>
                  <a:pt x="5400" y="10800"/>
                  <a:pt x="10800" y="11848"/>
                  <a:pt x="10800" y="12895"/>
                </a:cubicBezTo>
                <a:lnTo>
                  <a:pt x="10800" y="19505"/>
                </a:lnTo>
                <a:cubicBezTo>
                  <a:pt x="10800" y="2055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8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7"/>
          <p:cNvSpPr/>
          <p:nvPr/>
        </p:nvSpPr>
        <p:spPr>
          <a:xfrm rot="16200000">
            <a:off x="2215080" y="5064840"/>
            <a:ext cx="378000" cy="1455480"/>
          </a:xfrm>
          <a:custGeom>
            <a:avLst/>
            <a:gdLst>
              <a:gd name="textAreaLeft" fmla="*/ 241560 w 378000"/>
              <a:gd name="textAreaRight" fmla="*/ 378360 w 378000"/>
              <a:gd name="textAreaTop" fmla="*/ 43200 h 1455480"/>
              <a:gd name="textAreaBottom" fmla="*/ 1412280 h 14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0"/>
                  <a:pt x="10800" y="2060"/>
                </a:cubicBezTo>
                <a:lnTo>
                  <a:pt x="10800" y="8740"/>
                </a:lnTo>
                <a:cubicBezTo>
                  <a:pt x="10800" y="9770"/>
                  <a:pt x="5400" y="10800"/>
                  <a:pt x="0" y="10800"/>
                </a:cubicBezTo>
                <a:cubicBezTo>
                  <a:pt x="5400" y="10800"/>
                  <a:pt x="10800" y="11830"/>
                  <a:pt x="10800" y="12860"/>
                </a:cubicBezTo>
                <a:lnTo>
                  <a:pt x="10800" y="19540"/>
                </a:lnTo>
                <a:cubicBezTo>
                  <a:pt x="10800" y="2057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8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1" dur="2000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8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9" dur="1" fill="hold"/>
                                  <p:tgtEl>
                                    <p:spTgt spid="8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410" dur="1" fill="hold"/>
                                  <p:tgtEl>
                                    <p:spTgt spid="8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411" dur="1" fill="hold"/>
                                  <p:tgtEl>
                                    <p:spTgt spid="80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ALOR A PRESIÓN CONSTANTE (Q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=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+ P ·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;   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=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+ P ·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+ H 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= H 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Q</a:t>
            </a:r>
            <a:r>
              <a:rPr b="1" lang="es-ES_tradnl" sz="2400" spc="-1" strike="noStrike" baseline="-25000">
                <a:solidFill>
                  <a:srgbClr val="355071"/>
                </a:solidFill>
                <a:latin typeface="Tw Cen MT"/>
              </a:rPr>
              <a:t>P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 = H</a:t>
            </a:r>
            <a:r>
              <a:rPr b="1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 –  H</a:t>
            </a:r>
            <a:r>
              <a:rPr b="1" lang="es-ES_tradnl" sz="2400" spc="-1" strike="noStrike" baseline="-25000">
                <a:solidFill>
                  <a:srgbClr val="355071"/>
                </a:solidFill>
                <a:latin typeface="Tw Cen MT"/>
              </a:rPr>
              <a:t>1 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= </a:t>
            </a:r>
            <a:r>
              <a:rPr b="1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 ES UNA FUNCIÓN DE ESTADO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814" name="Group 32"/>
          <p:cNvGrpSpPr/>
          <p:nvPr/>
        </p:nvGrpSpPr>
        <p:grpSpPr>
          <a:xfrm>
            <a:off x="5372280" y="1369800"/>
            <a:ext cx="3581280" cy="2210040"/>
            <a:chOff x="5372280" y="1369800"/>
            <a:chExt cx="3581280" cy="2210040"/>
          </a:xfrm>
        </p:grpSpPr>
        <p:sp>
          <p:nvSpPr>
            <p:cNvPr id="815" name="Text Box 15"/>
            <p:cNvSpPr/>
            <p:nvPr/>
          </p:nvSpPr>
          <p:spPr>
            <a:xfrm>
              <a:off x="6058080" y="312264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Reactivo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Group 29"/>
            <p:cNvGrpSpPr/>
            <p:nvPr/>
          </p:nvGrpSpPr>
          <p:grpSpPr>
            <a:xfrm>
              <a:off x="5372280" y="1369800"/>
              <a:ext cx="3581280" cy="2210040"/>
              <a:chOff x="5372280" y="1369800"/>
              <a:chExt cx="3581280" cy="2210040"/>
            </a:xfrm>
          </p:grpSpPr>
          <p:sp>
            <p:nvSpPr>
              <p:cNvPr id="817" name="Line 6"/>
              <p:cNvSpPr/>
              <p:nvPr/>
            </p:nvSpPr>
            <p:spPr>
              <a:xfrm flipV="1">
                <a:off x="5905440" y="1522080"/>
                <a:ext cx="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Line 7"/>
              <p:cNvSpPr/>
              <p:nvPr/>
            </p:nvSpPr>
            <p:spPr>
              <a:xfrm>
                <a:off x="5905440" y="3579840"/>
                <a:ext cx="259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Line 8"/>
              <p:cNvSpPr/>
              <p:nvPr/>
            </p:nvSpPr>
            <p:spPr>
              <a:xfrm>
                <a:off x="6134040" y="3122640"/>
                <a:ext cx="106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Line 9"/>
              <p:cNvSpPr/>
              <p:nvPr/>
            </p:nvSpPr>
            <p:spPr>
              <a:xfrm>
                <a:off x="7353360" y="2436840"/>
                <a:ext cx="10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Text Box 12"/>
              <p:cNvSpPr/>
              <p:nvPr/>
            </p:nvSpPr>
            <p:spPr>
              <a:xfrm rot="16200000">
                <a:off x="4693680" y="2048040"/>
                <a:ext cx="175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Entalpia (H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Text Box 16"/>
              <p:cNvSpPr/>
              <p:nvPr/>
            </p:nvSpPr>
            <p:spPr>
              <a:xfrm>
                <a:off x="7201080" y="205596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Productos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Line 23"/>
              <p:cNvSpPr/>
              <p:nvPr/>
            </p:nvSpPr>
            <p:spPr>
              <a:xfrm flipV="1">
                <a:off x="6819840" y="2436480"/>
                <a:ext cx="1067040" cy="685800"/>
              </a:xfrm>
              <a:prstGeom prst="line">
                <a:avLst/>
              </a:prstGeom>
              <a:ln w="38160">
                <a:solidFill>
                  <a:srgbClr val="68331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Text Box 25"/>
              <p:cNvSpPr/>
              <p:nvPr/>
            </p:nvSpPr>
            <p:spPr>
              <a:xfrm>
                <a:off x="7201080" y="2894040"/>
                <a:ext cx="17524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2600" spc="-1" strike="noStrike">
                    <a:solidFill>
                      <a:srgbClr val="000000"/>
                    </a:solidFill>
                    <a:latin typeface="Times New Roman"/>
                  </a:rPr>
                  <a:t>H &gt; 0</a:t>
                </a: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Text Box 27"/>
              <p:cNvSpPr/>
              <p:nvPr/>
            </p:nvSpPr>
            <p:spPr>
              <a:xfrm>
                <a:off x="6210360" y="1674720"/>
                <a:ext cx="2362320" cy="398880"/>
              </a:xfrm>
              <a:prstGeom prst="rect">
                <a:avLst/>
              </a:prstGeom>
              <a:noFill/>
              <a:ln w="12600">
                <a:solidFill>
                  <a:srgbClr val="2fa3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55071"/>
                    </a:solidFill>
                    <a:latin typeface="Times New Roman"/>
                  </a:rPr>
                  <a:t>Reac. endotérmic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6" name="Group 31"/>
          <p:cNvGrpSpPr/>
          <p:nvPr/>
        </p:nvGrpSpPr>
        <p:grpSpPr>
          <a:xfrm>
            <a:off x="5410080" y="3854520"/>
            <a:ext cx="3429000" cy="2133360"/>
            <a:chOff x="5410080" y="3854520"/>
            <a:chExt cx="3429000" cy="2133360"/>
          </a:xfrm>
        </p:grpSpPr>
        <p:sp>
          <p:nvSpPr>
            <p:cNvPr id="827" name="Line 10"/>
            <p:cNvSpPr/>
            <p:nvPr/>
          </p:nvSpPr>
          <p:spPr>
            <a:xfrm flipV="1">
              <a:off x="5867280" y="3930120"/>
              <a:ext cx="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Group 30"/>
            <p:cNvGrpSpPr/>
            <p:nvPr/>
          </p:nvGrpSpPr>
          <p:grpSpPr>
            <a:xfrm>
              <a:off x="5410080" y="3854520"/>
              <a:ext cx="3429000" cy="2133360"/>
              <a:chOff x="5410080" y="3854520"/>
              <a:chExt cx="3429000" cy="2133360"/>
            </a:xfrm>
          </p:grpSpPr>
          <p:sp>
            <p:nvSpPr>
              <p:cNvPr id="829" name="Line 11"/>
              <p:cNvSpPr/>
              <p:nvPr/>
            </p:nvSpPr>
            <p:spPr>
              <a:xfrm>
                <a:off x="5867280" y="5987880"/>
                <a:ext cx="259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Text Box 14"/>
              <p:cNvSpPr/>
              <p:nvPr/>
            </p:nvSpPr>
            <p:spPr>
              <a:xfrm rot="16200000">
                <a:off x="4731480" y="4608360"/>
                <a:ext cx="175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Entalpia (H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Text Box 18"/>
              <p:cNvSpPr/>
              <p:nvPr/>
            </p:nvSpPr>
            <p:spPr>
              <a:xfrm>
                <a:off x="6019560" y="4159080"/>
                <a:ext cx="15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Reactivos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Text Box 20"/>
              <p:cNvSpPr/>
              <p:nvPr/>
            </p:nvSpPr>
            <p:spPr>
              <a:xfrm>
                <a:off x="7315200" y="545472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Productos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Line 21"/>
              <p:cNvSpPr/>
              <p:nvPr/>
            </p:nvSpPr>
            <p:spPr>
              <a:xfrm>
                <a:off x="6095880" y="4616280"/>
                <a:ext cx="114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Line 22"/>
              <p:cNvSpPr/>
              <p:nvPr/>
            </p:nvSpPr>
            <p:spPr>
              <a:xfrm>
                <a:off x="7391160" y="5378400"/>
                <a:ext cx="114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Line 24"/>
              <p:cNvSpPr/>
              <p:nvPr/>
            </p:nvSpPr>
            <p:spPr>
              <a:xfrm>
                <a:off x="6629400" y="4616280"/>
                <a:ext cx="1295280" cy="762120"/>
              </a:xfrm>
              <a:prstGeom prst="line">
                <a:avLst/>
              </a:prstGeom>
              <a:ln w="38160">
                <a:solidFill>
                  <a:srgbClr val="68331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Text Box 26"/>
              <p:cNvSpPr/>
              <p:nvPr/>
            </p:nvSpPr>
            <p:spPr>
              <a:xfrm>
                <a:off x="7391160" y="4464000"/>
                <a:ext cx="12193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2600" spc="-1" strike="noStrike">
                    <a:solidFill>
                      <a:srgbClr val="000000"/>
                    </a:solidFill>
                    <a:latin typeface="Times New Roman"/>
                  </a:rPr>
                  <a:t>H &lt; 0</a:t>
                </a: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28"/>
              <p:cNvSpPr/>
              <p:nvPr/>
            </p:nvSpPr>
            <p:spPr>
              <a:xfrm>
                <a:off x="6476760" y="3854520"/>
                <a:ext cx="2362320" cy="398880"/>
              </a:xfrm>
              <a:prstGeom prst="rect">
                <a:avLst/>
              </a:prstGeom>
              <a:noFill/>
              <a:ln w="12600">
                <a:solidFill>
                  <a:srgbClr val="2fa3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55071"/>
                    </a:solidFill>
                    <a:latin typeface="Times New Roman"/>
                  </a:rPr>
                  <a:t>Reac. exotérmic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8" name="Rectangle 33"/>
          <p:cNvSpPr/>
          <p:nvPr/>
        </p:nvSpPr>
        <p:spPr>
          <a:xfrm>
            <a:off x="1547640" y="3716280"/>
            <a:ext cx="3600720" cy="86508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RELACIÓN Q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w Cen MT"/>
              </a:rPr>
              <a:t>V 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ON Q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w Cen MT"/>
              </a:rPr>
              <a:t>P 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(GASES).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685800" y="2133360"/>
            <a:ext cx="777240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171360" indent="-171360" algn="ctr">
              <a:lnSpc>
                <a:spcPct val="120000"/>
              </a:lnSpc>
              <a:spcBef>
                <a:spcPts val="1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H = </a:t>
            </a: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U + P · </a:t>
            </a: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V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171360" indent="-1713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APLICANDO LA ECUACIÓN DE LOS GASES: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P · V = N · R · 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71360" indent="-171360">
              <a:lnSpc>
                <a:spcPct val="12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Y SI P Y T SON CONSTANTES LA ECUACIÓN SE CUMPLIRÁ PARA LOS ESTADOS INICIAL Y FINAL: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 P ·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 V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 N · R · 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71360" indent="-17136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H = </a:t>
            </a: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U + </a:t>
            </a: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N · R · T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2590920" y="1752480"/>
            <a:ext cx="3886200" cy="76212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2438280" y="5334120"/>
            <a:ext cx="4267440" cy="76176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RELACIÓN Q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w Cen MT"/>
              </a:rPr>
              <a:t>V 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ON Q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(SÓLIDOS Y LÍQUIDOS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 REACCIONES DE SÓLIDOS Y LÍQUIDOS APENAS SE PRODUCE VARIACIÓN DE VOLUMEN Y ..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Q</a:t>
            </a:r>
            <a:r>
              <a:rPr b="1" lang="es-ES_tradnl" sz="4000" spc="-1" strike="noStrike" baseline="-25000">
                <a:solidFill>
                  <a:srgbClr val="355071"/>
                </a:solidFill>
                <a:latin typeface="Tw Cen MT"/>
              </a:rPr>
              <a:t>V </a:t>
            </a: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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Q</a:t>
            </a:r>
            <a:r>
              <a:rPr b="1" lang="es-ES_tradnl" sz="4000" spc="-1" strike="noStrike" baseline="-25000">
                <a:solidFill>
                  <a:srgbClr val="355071"/>
                </a:solidFill>
                <a:latin typeface="Tw Cen MT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ES DECIR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U </a:t>
            </a: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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</a:t>
            </a: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H 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Rectangle 4"/>
          <p:cNvSpPr/>
          <p:nvPr/>
        </p:nvSpPr>
        <p:spPr>
          <a:xfrm>
            <a:off x="3352680" y="3048120"/>
            <a:ext cx="2362320" cy="76176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5"/>
          <p:cNvSpPr/>
          <p:nvPr/>
        </p:nvSpPr>
        <p:spPr>
          <a:xfrm>
            <a:off x="3276720" y="4343400"/>
            <a:ext cx="2590560" cy="76212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2fa3ee"/>
                </a:solidFill>
                <a:uFillTx/>
                <a:latin typeface="Tw Cen MT"/>
              </a:rPr>
              <a:t>EJERCICIO A: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EN TERMOQUÍMICA EL VALOR DE R SUELE TOMARSE EN UNIDADES DEL SISTEMA INTERNACIONAL. YA SABES QUE R = 0,082 ATM·L·MOL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-1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-1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. DETERMINA EL VALOR DE  R EN EL S.I CON SUS UNIDADE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1042920" y="2276640"/>
            <a:ext cx="860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P = D G H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1 ATM = 13546 KG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-3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9,8 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-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0,76 M =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10900 KG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-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9" name="Rectangle 8"/>
          <p:cNvSpPr/>
          <p:nvPr/>
        </p:nvSpPr>
        <p:spPr>
          <a:xfrm>
            <a:off x="0" y="4149720"/>
            <a:ext cx="9144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9"/>
          <p:cNvSpPr/>
          <p:nvPr/>
        </p:nvSpPr>
        <p:spPr>
          <a:xfrm>
            <a:off x="344520" y="319644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1" name="Object 6"/>
          <p:cNvGraphicFramePr/>
          <p:nvPr/>
        </p:nvGraphicFramePr>
        <p:xfrm>
          <a:off x="0" y="4149720"/>
          <a:ext cx="914400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49720"/>
                    <a:ext cx="9144000" cy="777960"/>
                  </a:xfrm>
                  <a:prstGeom prst="rect">
                    <a:avLst/>
                  </a:prstGeom>
                  <a:ln w="9360">
                    <a:solidFill>
                      <a:srgbClr val="bcf9fe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7" dur="500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Tw Cen MT"/>
              </a:rPr>
              <a:t>EJEMPLO: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DETERMINAR LA VARIACIÓN DE ENERGÍA INTERNA PARA EL PROCESO DE COMBUSTIÓN DE 1 MOL DE PROPANO A 25ºC Y 1 ATM, SI LA VARIACIÓN DE ENTALPÍA, EN ESTAS CONDICIONES, VALE – 2219,8 KJ.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6854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8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(G) + 5 O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(G)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3 CO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(G) + 4 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O (L)</a:t>
            </a:r>
            <a:br>
              <a:rPr sz="2600"/>
            </a:b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H = –2219,8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N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REACTIVOS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= 1+5 = 6 ; N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PRODUCTOS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= 3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N = – 3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DESPEJANDO EN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U =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H –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N · R · T =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–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2219 KJ + 3 MOL · (8,3 J/MOL.K) · 298 K = –2214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 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1" lang="es-ES_tradnl" sz="26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 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U</a:t>
            </a:r>
            <a:r>
              <a:rPr b="0" lang="es-ES_tradnl" sz="2600" spc="-1" strike="noStrike">
                <a:solidFill>
                  <a:srgbClr val="355071"/>
                </a:solidFill>
                <a:latin typeface="Tw Cen MT"/>
              </a:rPr>
              <a:t> =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– 2212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5" name="Rectangle 1028"/>
          <p:cNvSpPr/>
          <p:nvPr/>
        </p:nvSpPr>
        <p:spPr>
          <a:xfrm>
            <a:off x="3276720" y="5181480"/>
            <a:ext cx="3047760" cy="68580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7" dur="500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5" dur="500"/>
                                        <p:tgtEl>
                                          <p:spTgt spid="8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5028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w Cen MT"/>
              </a:rPr>
              <a:t>ENTALPÍA ESTÁNDAR DE LA REACCIÓN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539640" y="170028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S EL INCREMENTO ENTÁLPICO DE UNA REACCIÓN EN LA CUAL, TANTO REACTIVOS COMO PRODUCTOS ESTÁN EN CONDICIONES ESTÁNDAR (P = 1 ATM; T = 298 K = 25 ºC; CONC. = 1 M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SE EXPRESA COMO</a:t>
            </a:r>
            <a:r>
              <a:rPr b="0" lang="es-ES_tradnl" sz="2400" spc="-1" strike="noStrike">
                <a:solidFill>
                  <a:srgbClr val="683319"/>
                </a:solidFill>
                <a:latin typeface="Tw Cen MT"/>
              </a:rPr>
              <a:t> </a:t>
            </a:r>
            <a:r>
              <a:rPr b="1" lang="es-ES_tradnl" sz="2400" spc="-1" strike="noStrike">
                <a:solidFill>
                  <a:srgbClr val="68331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83319"/>
                </a:solidFill>
                <a:latin typeface="Tw Cen MT"/>
              </a:rPr>
              <a:t>H</a:t>
            </a:r>
            <a:r>
              <a:rPr b="1" lang="es-ES_tradnl" sz="2400" spc="-1" strike="noStrike" baseline="30000">
                <a:solidFill>
                  <a:srgbClr val="683319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683319"/>
                </a:solidFill>
                <a:latin typeface="Tw Cen MT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Y COMO SE MIDE EN J O KJ DEPENDE DE CÓMO SE AJUSTE LA  REACCIÓN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ASÍ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 DE LA REACCIÓN “2 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 + 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 2 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O” ES EL DOBLE DEL DE “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 + ½ 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O”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H</a:t>
            </a:r>
            <a:r>
              <a:rPr b="1" lang="es-ES_tradnl" sz="2400" spc="-1" strike="noStrike" baseline="30000">
                <a:solidFill>
                  <a:srgbClr val="355071"/>
                </a:solidFill>
                <a:latin typeface="Tw Cen MT"/>
              </a:rPr>
              <a:t>0 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= H</a:t>
            </a:r>
            <a:r>
              <a:rPr b="1" lang="es-ES_tradnl" sz="2400" spc="-1" strike="noStrike" baseline="30000">
                <a:solidFill>
                  <a:srgbClr val="355071"/>
                </a:solidFill>
                <a:latin typeface="Tw Cen MT"/>
              </a:rPr>
              <a:t>0</a:t>
            </a:r>
            <a:r>
              <a:rPr b="1" lang="es-ES_tradnl" sz="2400" spc="-1" strike="noStrike" baseline="-25000">
                <a:solidFill>
                  <a:srgbClr val="355071"/>
                </a:solidFill>
                <a:latin typeface="Tw Cen MT"/>
              </a:rPr>
              <a:t>PRODUCTOS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 –  H</a:t>
            </a:r>
            <a:r>
              <a:rPr b="1" lang="es-ES_tradnl" sz="2400" spc="-1" strike="noStrike" baseline="30000">
                <a:solidFill>
                  <a:srgbClr val="355071"/>
                </a:solidFill>
                <a:latin typeface="Tw Cen MT"/>
              </a:rPr>
              <a:t>0</a:t>
            </a:r>
            <a:r>
              <a:rPr b="1" lang="es-ES_tradnl" sz="2400" spc="-1" strike="noStrike" baseline="-25000">
                <a:solidFill>
                  <a:srgbClr val="355071"/>
                </a:solidFill>
                <a:latin typeface="Tw Cen MT"/>
              </a:rPr>
              <a:t>REACTIVO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Rectangle 1028"/>
          <p:cNvSpPr/>
          <p:nvPr/>
        </p:nvSpPr>
        <p:spPr>
          <a:xfrm>
            <a:off x="2438280" y="5867280"/>
            <a:ext cx="5029200" cy="8384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CUACIONES TERMOQUÍMICA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304920" y="1828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XPRESAN TANTO LOS REACTIVOS COMO LOS PRODUCTOS INDICANDO ENTRE PARÉNTESIS SU ESTADO FÍSICO, Y A CONTINUACIÓN LA VARIACIÓN ENERGÉTICA EXPRESADA COM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(HABITUALMENTE COM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55071"/>
                </a:solidFill>
                <a:uFillTx/>
                <a:latin typeface="Tw Cen MT"/>
              </a:rPr>
              <a:t>EJEMPLOS</a:t>
            </a:r>
            <a:r>
              <a:rPr b="1" lang="es-ES_tradnl" sz="2000" spc="-1" strike="noStrike">
                <a:solidFill>
                  <a:srgbClr val="355071"/>
                </a:solidFill>
                <a:latin typeface="Tw Cen MT"/>
              </a:rPr>
              <a:t>:</a:t>
            </a:r>
            <a:r>
              <a:rPr b="0" lang="es-ES_tradnl" sz="2000" spc="-1" strike="noStrike">
                <a:solidFill>
                  <a:srgbClr val="355071"/>
                </a:solidFill>
                <a:latin typeface="Tw Cen MT"/>
              </a:rPr>
              <a:t> </a:t>
            </a:r>
            <a:br>
              <a:rPr sz="2000"/>
            </a:b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C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+ 2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C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+ 2 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O(L)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= –890 KJ</a:t>
            </a:r>
            <a:br>
              <a:rPr sz="24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+ ½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O(G);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= –241’4 KJ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8" dur="500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3" dur="500"/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ECUACIONES TERMOQUÍMICA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w Cen MT"/>
              </a:rPr>
              <a:t>¡CUIDADO!:</a:t>
            </a:r>
            <a:r>
              <a:rPr b="0" lang="es-ES_tradnl" sz="24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 DEPENDE DEL NÚMERO DE MOLES QUE SE FORMAN O PRODUCEN. POR TANTO, SI SE AJUSTA PONIENDO COEFICIENTES DOBLES, HABRÁ QUE MULTIPLICA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POR 2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2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(G) +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2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O(G) 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= 2· (–241’4 KJ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CON FRECUENCIA, SUELEN USARSE COEFICIENTES FRACCIONARIOS PARA AJUSTAR LAS ECUACIONE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(G) + ½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O(G) ;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= –241’4 KJ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NTALPÍA ESTÁNDAR DE FORMACIÓN (CALOR DE FORMACIÓN)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395280" y="124452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S EL INCREMENTO ENTÁLPICO (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) QUE SE PRODUCE EN LA REACCIÓN DE FORMACIÓN DE </a:t>
            </a:r>
            <a:r>
              <a:rPr b="1" lang="es-ES_tradnl" sz="2000" spc="-1" strike="noStrike" u="sng">
                <a:solidFill>
                  <a:srgbClr val="af7823"/>
                </a:solidFill>
                <a:uFillTx/>
                <a:latin typeface="Tw Cen MT"/>
              </a:rPr>
              <a:t>UN MOL</a:t>
            </a:r>
            <a:r>
              <a:rPr b="0" lang="es-ES_tradnl" sz="2000" spc="-1" strike="noStrike">
                <a:solidFill>
                  <a:srgbClr val="af7823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DE UN DETERMINADO COMPUESTO A PARTIR DE LOS ELEMENTOS EN ESTADO FÍSICO NORMAL (EN CONDICIONES ESTÁNDAR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E EXPRESA COM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SE TRATA DE UN “CALOR MOLAR”, ES DECIR, EL COCIENTE ENTR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 Y EL NÚMERO DE MOLES FORMADOS DE PRODUCTO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POR TANTO, SE MIDE EN KJ/MOL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55071"/>
                </a:solidFill>
                <a:uFillTx/>
                <a:latin typeface="Tw Cen MT"/>
              </a:rPr>
              <a:t>EJEMPLOS</a:t>
            </a:r>
            <a:r>
              <a:rPr b="1" lang="es-ES_tradnl" sz="2000" spc="-1" strike="noStrike">
                <a:solidFill>
                  <a:srgbClr val="355071"/>
                </a:solidFill>
                <a:latin typeface="Tw Cen MT"/>
              </a:rPr>
              <a:t>:</a:t>
            </a:r>
            <a:r>
              <a:rPr b="0" lang="es-ES_tradnl" sz="2000" spc="-1" strike="noStrike">
                <a:solidFill>
                  <a:srgbClr val="355071"/>
                </a:solidFill>
                <a:latin typeface="Tw Cen MT"/>
              </a:rPr>
              <a:t> </a:t>
            </a:r>
            <a:br>
              <a:rPr sz="2000"/>
            </a:b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C(S) +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C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= – 393’13 KJ/MOL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+ ½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O(L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= – 285’8 KJ/MO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-241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ONTENIDOS (1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533520" y="914400"/>
            <a:ext cx="727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1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SISTEMAS, ESTADOS Y FUNCIONES DE ESTADO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2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PRIMER PRINCIPIO DE LA TERMODINÁMIC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3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ERGÍA INTERNA Y ENTALPÍA. REACCIONES A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VOLUMEN Y A PRESIÓN CONSTANT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3.1.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RELACIÓN ENTRE AMBA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4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TALPÍA ESTÁNDAR DE REACCIÓ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71760" indent="-22392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4.1.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CUACIONES TERMOQUÍMICA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5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TALPÍA ESTÁNDAR DE FORMACIÓN.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6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CÁLCULO DE LAS ENTALPÍAS DE REACCIÓ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7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LEY DE HES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ÁLCULO DE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44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(CALOR DE REACCIÓN) 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APLICANDO LA LEY DE HESS PODEMOS CONCLUIR QUE 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7720" indent="-2077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7720" indent="-20772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(PRODUCTOS)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–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(REACTIVO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7720" indent="-207720" algn="ctr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7720" indent="-2077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RECUERDA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DE TODOS LOS ELEMENTOS EN ESTADO ORIGINAL ES 0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7" name="Rectangle 4"/>
          <p:cNvSpPr/>
          <p:nvPr/>
        </p:nvSpPr>
        <p:spPr>
          <a:xfrm>
            <a:off x="990720" y="3200400"/>
            <a:ext cx="7010280" cy="129528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Comment 5"/>
          <p:cNvSpPr/>
          <p:nvPr/>
        </p:nvSpPr>
        <p:spPr>
          <a:xfrm rot="2091600">
            <a:off x="7257240" y="534240"/>
            <a:ext cx="1889280" cy="703800"/>
          </a:xfrm>
          <a:prstGeom prst="rect">
            <a:avLst/>
          </a:prstGeom>
          <a:solidFill>
            <a:srgbClr val="fb5bf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abe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Tw Cen MT"/>
              </a:rPr>
              <a:t>EJEMPLO: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CONOCIDAS LAS ENTALPÍAS ESTÁNDAR DE FORMACIÓN  DEL BUTANO (C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1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), AGUA LÍQUIDA Y C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, CUYOS VALORES SON RESPECTIVAMENTE –124’7, –285’8 Y –393’5 KJ/MOL, CALCULAR LA ENTALPÍA ESTÁNDAR DE COMBUSTIÓN DEL BUTANO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304560" y="20574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LA REACCIÓN DE COMBUSTIÓN DEL BUTANO ES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1400" indent="-221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1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 +13/2O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4 CO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 + 5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O(L)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COMB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 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1400" indent="-221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PRODUCT.) –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R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REACTIVOS) = </a:t>
            </a:r>
            <a:br>
              <a:rPr sz="2600"/>
            </a:b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4 MOL(– 393’5 KJ/MOL) + 5 MOL(– 285’8 KJ/MOL) </a:t>
            </a:r>
            <a:br>
              <a:rPr sz="2600"/>
            </a:b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–1 MOL(– 124’7 KJ/MOL) = – 2878’3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1400" indent="-2214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LUEGO LA ENTALPÍA ESTÁNDAR DE COMBUSTIÓN SERÁ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1400" indent="-221400">
              <a:lnSpc>
                <a:spcPct val="12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COMBUSTIÓN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– 2878’3 KJ/MO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1" name="Rectangle 4"/>
          <p:cNvSpPr/>
          <p:nvPr/>
        </p:nvSpPr>
        <p:spPr>
          <a:xfrm>
            <a:off x="2133720" y="4876920"/>
            <a:ext cx="5486400" cy="68580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LEY DE HES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Tw Cen MT"/>
              </a:rPr>
              <a:t>H EN UNA REACCIÓN QUÍMICA ES CONSTANTE CON INDEPENDENCIA DE QUE LA REACCIÓN SE PRODUZCA EN UNA O MÁS ETAPAS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RECUERDA QUE H ES FUNCIÓN DE ESTADO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POR TANTO, SI UNA ECUACIÓN QUÍMICA SE PUEDE EXPRESAR COMO COMBINACIÓN LINEAL DE OTRAS, PODREMOS IGUALMENTE CALCULA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DE LA REACCIÓN GLOBAL COMBINANDO LO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DE CADA UNA DE LAS REACCION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4" name="Comment 4"/>
          <p:cNvSpPr/>
          <p:nvPr/>
        </p:nvSpPr>
        <p:spPr>
          <a:xfrm rot="2091600">
            <a:off x="7257240" y="534240"/>
            <a:ext cx="1889280" cy="703800"/>
          </a:xfrm>
          <a:prstGeom prst="rect">
            <a:avLst/>
          </a:prstGeom>
          <a:solidFill>
            <a:srgbClr val="fee19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abe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80880" y="9806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Tw Cen MT"/>
              </a:rPr>
              <a:t>EJEMPLO: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DADAS LAS REACCIONES</a:t>
            </a:r>
            <a:br>
              <a:rPr sz="2500"/>
            </a:b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(1)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+ ½ 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(G) 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= – 241’8 KJ</a:t>
            </a: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2)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+ ½ 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(L)   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= – 285’8 KJ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CALCULAR LA ENTALPÍA DE VAPORIZACIÓN DEL AGUA EN CONDICIONES ESTÁNDAR.</a:t>
            </a: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761760" y="2637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LA REACCIÓN DE VAPORIZACIÓN ES..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3)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(L)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(G)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3) PUEDE EXPRESARSE COMO (1) – (2), LUEG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3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–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– 241’8 KJ – (–285’8 KJ) = 44 KJ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ctr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VAPORIZACIÓN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1" lang="es-ES_tradnl" sz="2000" spc="-1" strike="noStrike">
                <a:solidFill>
                  <a:srgbClr val="355071"/>
                </a:solidFill>
                <a:latin typeface="Tw Cen MT"/>
              </a:rPr>
              <a:t>44 KJ /MO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7" name="Rectangle 1028"/>
          <p:cNvSpPr/>
          <p:nvPr/>
        </p:nvSpPr>
        <p:spPr>
          <a:xfrm>
            <a:off x="2514600" y="5791320"/>
            <a:ext cx="4572000" cy="60948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SQUEMA DE LA LEY DE HES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9" name="Line 4"/>
          <p:cNvSpPr/>
          <p:nvPr/>
        </p:nvSpPr>
        <p:spPr>
          <a:xfrm flipH="1" flipV="1">
            <a:off x="1752120" y="2057040"/>
            <a:ext cx="1800" cy="3809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7"/>
          <p:cNvSpPr/>
          <p:nvPr/>
        </p:nvSpPr>
        <p:spPr>
          <a:xfrm>
            <a:off x="2438280" y="25909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8"/>
          <p:cNvSpPr/>
          <p:nvPr/>
        </p:nvSpPr>
        <p:spPr>
          <a:xfrm>
            <a:off x="2514600" y="533412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9"/>
          <p:cNvSpPr/>
          <p:nvPr/>
        </p:nvSpPr>
        <p:spPr>
          <a:xfrm>
            <a:off x="3886200" y="45720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13"/>
          <p:cNvSpPr/>
          <p:nvPr/>
        </p:nvSpPr>
        <p:spPr>
          <a:xfrm>
            <a:off x="2743200" y="2590920"/>
            <a:ext cx="0" cy="2743200"/>
          </a:xfrm>
          <a:prstGeom prst="line">
            <a:avLst/>
          </a:prstGeom>
          <a:ln w="12600">
            <a:solidFill>
              <a:srgbClr val="3550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4"/>
          <p:cNvSpPr/>
          <p:nvPr/>
        </p:nvSpPr>
        <p:spPr>
          <a:xfrm>
            <a:off x="4343400" y="2590920"/>
            <a:ext cx="0" cy="1981080"/>
          </a:xfrm>
          <a:prstGeom prst="line">
            <a:avLst/>
          </a:prstGeom>
          <a:ln w="12600">
            <a:solidFill>
              <a:srgbClr val="3550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6"/>
          <p:cNvSpPr/>
          <p:nvPr/>
        </p:nvSpPr>
        <p:spPr>
          <a:xfrm flipV="1">
            <a:off x="5105520" y="4571640"/>
            <a:ext cx="0" cy="762120"/>
          </a:xfrm>
          <a:prstGeom prst="line">
            <a:avLst/>
          </a:prstGeom>
          <a:ln w="12600">
            <a:solidFill>
              <a:srgbClr val="bcf9f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18"/>
          <p:cNvSpPr/>
          <p:nvPr/>
        </p:nvSpPr>
        <p:spPr>
          <a:xfrm>
            <a:off x="4495680" y="3048120"/>
            <a:ext cx="266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– 241’8 kJ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20"/>
          <p:cNvSpPr/>
          <p:nvPr/>
        </p:nvSpPr>
        <p:spPr>
          <a:xfrm>
            <a:off x="1752480" y="38098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– 285’8 kJ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21"/>
          <p:cNvSpPr/>
          <p:nvPr/>
        </p:nvSpPr>
        <p:spPr>
          <a:xfrm>
            <a:off x="5257800" y="472428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cf9fe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bcf9fe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bcf9fe"/>
                </a:solidFill>
                <a:latin typeface="Times New Roman"/>
              </a:rPr>
              <a:t>3</a:t>
            </a:r>
            <a:r>
              <a:rPr b="1" lang="es-ES_tradnl" sz="2400" spc="-1" strike="noStrike" baseline="30000">
                <a:solidFill>
                  <a:srgbClr val="bcf9fe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bcf9fe"/>
                </a:solidFill>
                <a:latin typeface="Times New Roman"/>
              </a:rPr>
              <a:t> = 44 kJ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22"/>
          <p:cNvSpPr/>
          <p:nvPr/>
        </p:nvSpPr>
        <p:spPr>
          <a:xfrm>
            <a:off x="1143000" y="236232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3"/>
          <p:cNvSpPr/>
          <p:nvPr/>
        </p:nvSpPr>
        <p:spPr>
          <a:xfrm>
            <a:off x="2666880" y="19810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imes New Roman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imes New Roman"/>
              </a:rPr>
              <a:t>(g) + ½ O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imes New Roman"/>
              </a:rPr>
              <a:t>(g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4"/>
          <p:cNvSpPr/>
          <p:nvPr/>
        </p:nvSpPr>
        <p:spPr>
          <a:xfrm>
            <a:off x="4495680" y="39625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imes New Roman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imes New Roman"/>
              </a:rPr>
              <a:t>O(g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5"/>
          <p:cNvSpPr/>
          <p:nvPr/>
        </p:nvSpPr>
        <p:spPr>
          <a:xfrm>
            <a:off x="3352680" y="5410080"/>
            <a:ext cx="10670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6"/>
          <p:cNvSpPr/>
          <p:nvPr/>
        </p:nvSpPr>
        <p:spPr>
          <a:xfrm>
            <a:off x="3056040" y="5440320"/>
            <a:ext cx="9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imes New Roman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imes New Roman"/>
              </a:rPr>
              <a:t>O(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2fa3ee"/>
                </a:solidFill>
                <a:uFillTx/>
                <a:latin typeface="Tw Cen MT"/>
              </a:rPr>
              <a:t>EJERCICIO B:</a:t>
            </a:r>
            <a:r>
              <a:rPr b="0" lang="es-ES_tradnl" sz="2500" spc="-1" strike="noStrike">
                <a:solidFill>
                  <a:srgbClr val="2fa3ee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CONOCIDAS LAS ENTALPÍAS ESTÁNDAR DE FORMACIÓN DEL BUTANO (C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1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), AGUA LÍQUIDA Y C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, CUYOS VALORES SON RESPECTIVAMENTE –124’7, –285’8 Y –393’5 KJ/MOL, CALCULAR LA ENTALPÍA ESTÁNDAR DE COMBUSTIÓN DEL BUTANO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304560" y="1676520"/>
            <a:ext cx="8839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SI UTILIZAMOS LA LEY DE HESS, LA REACCIÓN: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4)  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10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+13/2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4 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+ 5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O(L)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COMB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=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PUEDE OBTENERSE A PARTIR DE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1)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+ ½ 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O(L)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= – 285’8 KJ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2)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C(S) + 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= – 393’5 KJ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3)   4 C(S) + 5 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10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   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= – 124’7 KJ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55071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4) = 4 · (2) + 5 · (1) – (3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4 C(S) + 4 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+5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+ 5/2 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+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10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4 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+ 5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O(L) + 4 C(S) + 5 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= 4 MOL(–393’5 KJ/MOL) + 5 MOL(–285’8 KJ/MOL) –1 MOL(– 124’7 KJ/MOL) =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lang="es-ES_tradnl" sz="2000" spc="-1" strike="noStrike">
                <a:solidFill>
                  <a:srgbClr val="355071"/>
                </a:solidFill>
                <a:latin typeface="Tw Cen MT"/>
              </a:rPr>
              <a:t>– 2878’3 KJ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6" name="Line 4"/>
          <p:cNvSpPr/>
          <p:nvPr/>
        </p:nvSpPr>
        <p:spPr>
          <a:xfrm flipH="1">
            <a:off x="762120" y="5105520"/>
            <a:ext cx="838080" cy="380880"/>
          </a:xfrm>
          <a:prstGeom prst="line">
            <a:avLst/>
          </a:prstGeom>
          <a:ln w="12600">
            <a:solidFill>
              <a:srgbClr val="2fa3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Group 8"/>
          <p:cNvGrpSpPr/>
          <p:nvPr/>
        </p:nvGrpSpPr>
        <p:grpSpPr>
          <a:xfrm>
            <a:off x="3123720" y="5105520"/>
            <a:ext cx="4953240" cy="761760"/>
            <a:chOff x="3123720" y="5105520"/>
            <a:chExt cx="4953240" cy="761760"/>
          </a:xfrm>
        </p:grpSpPr>
        <p:sp>
          <p:nvSpPr>
            <p:cNvPr id="898" name="Line 5"/>
            <p:cNvSpPr/>
            <p:nvPr/>
          </p:nvSpPr>
          <p:spPr>
            <a:xfrm flipH="1">
              <a:off x="7238520" y="5486400"/>
              <a:ext cx="838440" cy="380880"/>
            </a:xfrm>
            <a:prstGeom prst="line">
              <a:avLst/>
            </a:prstGeom>
            <a:ln w="12600">
              <a:solidFill>
                <a:srgbClr val="2fa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6"/>
            <p:cNvSpPr/>
            <p:nvPr/>
          </p:nvSpPr>
          <p:spPr>
            <a:xfrm flipH="1">
              <a:off x="3123720" y="5105520"/>
              <a:ext cx="838440" cy="380880"/>
            </a:xfrm>
            <a:prstGeom prst="line">
              <a:avLst/>
            </a:prstGeom>
            <a:ln w="12600">
              <a:solidFill>
                <a:srgbClr val="2fa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Line 7"/>
            <p:cNvSpPr/>
            <p:nvPr/>
          </p:nvSpPr>
          <p:spPr>
            <a:xfrm flipH="1">
              <a:off x="6019920" y="5486400"/>
              <a:ext cx="838080" cy="380880"/>
            </a:xfrm>
            <a:prstGeom prst="line">
              <a:avLst/>
            </a:prstGeom>
            <a:ln w="12600">
              <a:solidFill>
                <a:srgbClr val="2fa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8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8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7080" y="7207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2fa3ee"/>
                </a:solidFill>
                <a:uFillTx/>
                <a:latin typeface="Tw Cen MT"/>
              </a:rPr>
              <a:t>EJERCICIO C:</a:t>
            </a:r>
            <a:r>
              <a:rPr b="1" lang="es-ES_tradnl" sz="2900" spc="-1" strike="noStrike">
                <a:solidFill>
                  <a:srgbClr val="2fa3ee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DETERMINAR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DEL ETENO (C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) A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PARTIR DE LOS CALORES DE REACCIÓN DE LAS SIGUIENTES REACCIONES QUÍMICAS: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1) 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+ ½ 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(L)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= – 285’8 KJ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2)  C(S) + 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C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= – 393’13 KJ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3)  C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+ 3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2C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+ 2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(L)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– 1422 KJ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755280" y="393336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LA REACCIÓN DE FORMACIÓN DEL ETENO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G) A PARTIR DE SUS CONSTITUYENTES EN ESTADO NORMAL ES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4)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2 C(S) + 2 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4) SE PUEDE EXPRESAR COMO 2·(2) + 2·(1) – (3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2fa3ee"/>
                </a:solidFill>
                <a:uFillTx/>
                <a:latin typeface="Tw Cen MT"/>
              </a:rPr>
              <a:t>EJERCICIO C:</a:t>
            </a:r>
            <a:r>
              <a:rPr b="0" lang="es-ES_tradnl" sz="2500" spc="-1" strike="noStrike">
                <a:solidFill>
                  <a:srgbClr val="2fa3ee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DETERMINAR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DEL ETENO (C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) A PARTIR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DE LOS CALORES DE REACCIÓN DE LAS SIGUIENTES REACCIONES QUÍMICAS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0" y="15998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1)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G) + ½ O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G) </a:t>
            </a:r>
            <a:r>
              <a:rPr b="0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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O(L) 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1</a:t>
            </a:r>
            <a:r>
              <a:rPr b="0" lang="es-ES_tradnl" sz="2400" spc="-1" strike="noStrike" baseline="30000">
                <a:solidFill>
                  <a:srgbClr val="355071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= – 285’8 KJ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2)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C(S) + O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G) </a:t>
            </a:r>
            <a:r>
              <a:rPr b="0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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CO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G) 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 baseline="30000">
                <a:solidFill>
                  <a:srgbClr val="355071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= – 393’13 KJ</a:t>
            </a:r>
            <a:br>
              <a:rPr sz="2400"/>
            </a:b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3)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C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4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G) + 3O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G) </a:t>
            </a:r>
            <a:r>
              <a:rPr b="0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2CO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G) + 2 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O(L)  </a:t>
            </a:r>
            <a:r>
              <a:rPr b="0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3</a:t>
            </a:r>
            <a:r>
              <a:rPr b="0" lang="es-ES_tradnl" sz="2400" spc="-1" strike="noStrike" baseline="30000">
                <a:solidFill>
                  <a:srgbClr val="355071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= – 1422 KJ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65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65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4)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2 C(S) + 2  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C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65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4) = 2·(2) + 2·(1) – (3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65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LUEGO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= 2·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+ 2·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–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=</a:t>
            </a:r>
            <a:br>
              <a:rPr sz="2600"/>
            </a:b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 2 · (–393’13 KJ) + 2 · (– 285’8 KJ) – (– 1422 KJ) = </a:t>
            </a:r>
            <a:br>
              <a:rPr sz="2600"/>
            </a:b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 64’14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65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ES DECIR   </a:t>
            </a: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1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1" lang="es-ES_tradnl" sz="2600" spc="-1" strike="noStrike">
                <a:solidFill>
                  <a:srgbClr val="000000"/>
                </a:solidFill>
                <a:latin typeface="Tw Cen MT"/>
              </a:rPr>
              <a:t> (ETENO) = 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64’14 KJ/MOL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65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SE TRATA, PUES, DE UNA REACCIÓN ENDOTÉRMICA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5" name="Rectangle 4"/>
          <p:cNvSpPr/>
          <p:nvPr/>
        </p:nvSpPr>
        <p:spPr>
          <a:xfrm>
            <a:off x="1752480" y="5240160"/>
            <a:ext cx="4496040" cy="60984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9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9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9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9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8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2fa3ee"/>
                </a:solidFill>
                <a:uFillTx/>
                <a:latin typeface="Tw Cen MT"/>
              </a:rPr>
              <a:t>EJERCICIO D:</a:t>
            </a:r>
            <a:r>
              <a:rPr b="0" lang="es-ES_tradnl" sz="2500" spc="-1" strike="noStrike">
                <a:solidFill>
                  <a:srgbClr val="2fa3ee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LAS ENTALPÍAS DE COMBUSTIÓN DE LA GLUCOSA (C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6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1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6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)   Y DEL ETANOL (C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5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H) SON –2815 KJ/MOL Y –1372 KJ/MOL, RESPECTIVAMENTE. CON ESTOS DATOS DETERMINA LA ENERGÍA INTERCAMBIADA EN LA FERMENTA– CIÓN DE UN MOL DE GLUCOSA, REACCIÓN EN LA QUE SE PRODUCE ETANOL Y C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. ¿ES EXOTÉRMICA LA REACCIÓN?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380880" y="22050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LAS REACCIONES DE COMBUSTIÓN SON, RESPECTIVAMENTE: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1)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6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1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6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+ 6 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6 C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+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6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 ;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– 2815 KJ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2)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H + 3 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2 C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+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3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 ;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– 1372 KJ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LA REACCIÓN DE FERMENTACIÓN DE LA GLUCOSA ES: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3)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6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1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6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2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H +2 C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3) PUEDE EXPRESARSE COMO (1) – 2· (2), LUEGO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– 2·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– 2815 KJ – 2· (– 1372 KJ) =  </a:t>
            </a:r>
            <a:r>
              <a:rPr b="1" lang="es-ES_tradnl" sz="2000" spc="-1" strike="noStrike">
                <a:solidFill>
                  <a:srgbClr val="355071"/>
                </a:solidFill>
                <a:latin typeface="Tw Cen MT"/>
              </a:rPr>
              <a:t>– 71 KJ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Y LA REACCIÓN ES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w Cen MT"/>
              </a:rPr>
              <a:t>EXOTÉRMIC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8" name="Rectangle 4"/>
          <p:cNvSpPr/>
          <p:nvPr/>
        </p:nvSpPr>
        <p:spPr>
          <a:xfrm>
            <a:off x="7620120" y="5410080"/>
            <a:ext cx="1218960" cy="68580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9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9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NERGÍA DE ENLACE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539280" y="853920"/>
            <a:ext cx="8604360" cy="600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3319"/>
                </a:solidFill>
                <a:latin typeface="Tw Cen MT"/>
              </a:rPr>
              <a:t>“</a:t>
            </a: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ES LA ENERGÍA NECESARIA PARA ROMPER UN ENLACE DE UN MOL DE SUSTANCIA EN ESTADO GASEOSO</a:t>
            </a:r>
            <a:r>
              <a:rPr b="0" lang="es-ES_tradnl" sz="2000" spc="-1" strike="noStrike">
                <a:solidFill>
                  <a:srgbClr val="683319"/>
                </a:solidFill>
                <a:latin typeface="Tw Cen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EN EL CASO DE MOLÉCULAS DIATÓMICAS ES IGUAL QUE LA ENERGÍA DE DISOCIACIÓN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A—B(G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A(G) + B(G)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DIS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NLACE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= 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55071"/>
                </a:solidFill>
                <a:uFillTx/>
                <a:latin typeface="Tw Cen MT"/>
              </a:rPr>
              <a:t>EJEMPLO</a:t>
            </a:r>
            <a:r>
              <a:rPr b="0" lang="es-ES_tradnl" sz="2000" spc="-1" strike="noStrike">
                <a:solidFill>
                  <a:srgbClr val="355071"/>
                </a:solidFill>
                <a:latin typeface="Tw Cen MT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2 H(G)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= 436 KJ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S POSITIVA (ES NECESARIO APORTAR ENERGÍA AL SISTEM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S DIFÍCIL DE MEDIR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E SUELE CALCULAR APLICANDO LA LEY DE HES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ONTENIDOS (2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539280" y="990720"/>
            <a:ext cx="7566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8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ERGÍA O ENTALPÍA DE ENLACE DE ENLACE 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51240" indent="-21708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8.1.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CÁLCULO DE LA ENERGÍA DE REACCIÓN A PARTIR DE ENTALPÍAS DE ENLACE APLICANDO LA LEY DE HES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8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SPONTANEIDAD DE LAS REACCIONES QUÍMICA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9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TROPÍ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51240" indent="-21708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9.1.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SEGUNDO PRINCIPIO DE LA TERMODINÁMIC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51240" indent="-21708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9.2.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TERCER PRINCIPIO DE LA TERMODINÁMIC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10.-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ERGÍA LIBRE DE GIBB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11.-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SPONTANEIDAD DE LAS REACCIONES QUÍMICAS. INFLUENCIA DE LA TEMPERATUR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Tw Cen MT"/>
              </a:rPr>
              <a:t>EJEMPLO: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CALCULAR LA ENERGÍA DEL ENLACE H—CL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EN EL CLORURO DE HIDRÓGENO CONOCIENDO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HCL) CUYO VALOR ES –92,3 KJ/MOL Y LAS ENTALPÍAS DE DISOCIACIÓN DEL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Y DEL CL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QUE SON 436,0 KJ/MOL Y 243,4 KJ/MOL, RESPECTIVAMENTE.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304560" y="20574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LA REACCIÓN DE DISOCIACIÓN DEL HCL SERÁ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4) HCL(G)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H(G) + CL(G)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= 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1) ½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G) + ½CL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HCL(G) 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         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= –92,3 KJ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2) 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2H(G)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= 436,0 KJ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3) CL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2CL(G)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= 243,4 KJ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4) = –(1) +  ½(2) +  ½(3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= –(– 92,3 KJ ) + ½(436,0 KJ) +  ½(243,4 KJ) == 432,0 KJ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w Cen MT"/>
              </a:rPr>
              <a:t>E</a:t>
            </a:r>
            <a:r>
              <a:rPr b="1" lang="es-ES_tradnl" sz="22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1" lang="es-ES_tradnl" sz="2200" spc="-1" strike="noStrike">
                <a:solidFill>
                  <a:srgbClr val="000000"/>
                </a:solidFill>
                <a:latin typeface="Tw Cen MT"/>
              </a:rPr>
              <a:t>(HCL)  =</a:t>
            </a:r>
            <a:r>
              <a:rPr b="1" lang="es-ES_tradnl" sz="2200" spc="-1" strike="noStrike">
                <a:solidFill>
                  <a:srgbClr val="355071"/>
                </a:solidFill>
                <a:latin typeface="Tw Cen MT"/>
              </a:rPr>
              <a:t>  432,0 KJ/MO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3" name="Rectangle 4"/>
          <p:cNvSpPr/>
          <p:nvPr/>
        </p:nvSpPr>
        <p:spPr>
          <a:xfrm>
            <a:off x="3886200" y="5867280"/>
            <a:ext cx="3962520" cy="68580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CÁLCULO DE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A PARTIR DE LAS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ENERGÍA DE ENLAC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 (DISOCIACIÓN)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304560" y="27367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APLICANDO LA LEY DE HESS EN CUALQUIER CASO SE OBTIENE LA SIGUIENTE FÓRMULA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0520" indent="-2905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0520" indent="-29052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· 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ENL. ROTOS)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· 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ENL. FORMADOS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0520" indent="-29052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0520" indent="-29052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EN DONDE NI  REPRESENTA EL NÚMERO DE ENLACES ROTOS Y FORMADOS DE CADA TIPO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6" name="Rectangle 4"/>
          <p:cNvSpPr/>
          <p:nvPr/>
        </p:nvSpPr>
        <p:spPr>
          <a:xfrm>
            <a:off x="407880" y="3581280"/>
            <a:ext cx="8686800" cy="114300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Comment 5"/>
          <p:cNvSpPr/>
          <p:nvPr/>
        </p:nvSpPr>
        <p:spPr>
          <a:xfrm rot="2091600">
            <a:off x="7057440" y="1396080"/>
            <a:ext cx="1888920" cy="703800"/>
          </a:xfrm>
          <a:prstGeom prst="rect">
            <a:avLst/>
          </a:prstGeom>
          <a:solidFill>
            <a:srgbClr val="fb5bf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abe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6840" y="289080"/>
            <a:ext cx="8077320" cy="16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w Cen MT"/>
              </a:rPr>
              <a:t>EJEMPLO: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SABIENDO QUE LAS ENERGÍA DE LOS SIGUIENTES ENLACES (KJ/MOL): C=C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 611; C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  <a:ea typeface="Times New Roman"/>
              </a:rPr>
              <a:t>–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C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 347; C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  <a:ea typeface="Times New Roman"/>
              </a:rPr>
              <a:t>–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H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 413 Y H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  <a:ea typeface="Times New Roman"/>
              </a:rPr>
              <a:t>–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H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436, CALCULAR EL VALOR DE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 DE LA REACCIÓN DE HIDROGENACIÓN DEL ETENO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457200" y="227628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3400" indent="-203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REACCIÓN: C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C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 + 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C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–C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03400" indent="-203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EN EL PROCESO SE ROMPE UN ENLACE C=C Y OTRO H–H Y SE FORMAN 2 ENLACES C–H NUEVOS (EL ETANO TIENE 6 MIENTRAS QUE EL ETENO TENÍA SÓLO 4) Y UN ENLACE C–C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03400" indent="-203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E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ENL. ROTOS) –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E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ENL. FORMADOS) =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03400" indent="-203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 1E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C=C) + 1 E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H–H) – 1E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C–C) – 2 E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C–H)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03400" indent="-203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 1 MOL · 611 KJ/MOL + 1MOL · 436 KJ/MOL</a:t>
            </a:r>
            <a:br>
              <a:rPr sz="2600"/>
            </a:b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– (1 MOL · 347 KJ/MOL + 2 MOL · 413 KJ/MOL) = 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–126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03400" indent="-203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03400" indent="-203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0" name="Rectangle 4"/>
          <p:cNvSpPr/>
          <p:nvPr/>
        </p:nvSpPr>
        <p:spPr>
          <a:xfrm>
            <a:off x="7524720" y="5373720"/>
            <a:ext cx="140328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500"/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6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6324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ff9900"/>
                </a:solidFill>
                <a:uFillTx/>
                <a:latin typeface="Tw Cen MT"/>
              </a:rPr>
              <a:t>EJERCICIO E: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CALCULA EL CALOR DE COMBUSTIÓN DE PROPANO </a:t>
            </a:r>
            <a:r>
              <a:rPr b="0" lang="es-ES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A PARTIR DE LOS DATOS DE ENERGÍA DE ENLACE DE LA TABLA</a:t>
            </a:r>
            <a:r>
              <a:rPr b="0" lang="es-ES" sz="25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155160" y="177300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8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+ 5 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3 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+ 4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ENLACES ROTOS: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8 C–H, 2 C–C Y 5 O=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ENLACES FORMADOS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6 C=O Y 8 O–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E. ROTOS) –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E. FORM.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= 8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C–H) + 2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C–C) +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5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O=O) – [6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C=O) + 8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O–H)]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= 8·413 KJ + 2·347 KJ +5·499 KJ – (6·745 KJ + 8·460 KJ) = –1657 KJ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COMB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8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) = </a:t>
            </a:r>
            <a:r>
              <a:rPr b="1" lang="es-ES_tradnl" sz="1800" spc="-1" strike="noStrike">
                <a:solidFill>
                  <a:srgbClr val="355071"/>
                </a:solidFill>
                <a:latin typeface="Tw Cen MT"/>
              </a:rPr>
              <a:t>–1657 KJ/MO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6477120" y="361800"/>
          <a:ext cx="2666880" cy="4754880"/>
        </p:xfrm>
        <a:graphic>
          <a:graphicData uri="http://schemas.openxmlformats.org/drawingml/2006/table">
            <a:tbl>
              <a:tblPr/>
              <a:tblGrid>
                <a:gridCol w="1066680"/>
                <a:gridCol w="160020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lac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es-ES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kJ/mol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–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–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=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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=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–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–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–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=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–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–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924" name="Rectangle 651"/>
          <p:cNvSpPr/>
          <p:nvPr/>
        </p:nvSpPr>
        <p:spPr>
          <a:xfrm>
            <a:off x="3735360" y="6183360"/>
            <a:ext cx="2087640" cy="620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500"/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500"/>
                                        <p:tgtEl>
                                          <p:spTgt spid="9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9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9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8" dur="500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2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ENTROPÍA (S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755280" y="17733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S UNA MEDIDA DEL DESORDEN DEL SISTEMA QUE SÍ PUEDE MEDIRSE Y TABULARS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 =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FINAL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INICIAL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XISTEN TABLAS DE 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(ENTROPÍA MOLAR ESTÁNDAR) DE DIFERENTES SUSTANCIAS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N UNA REACCIÓN QUÍMICA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· 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PRODUCTOS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· 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REACTIVOS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LA ENTROPÍA ES UNA FUNCIÓN DE ESTADO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7" name="Rectangle 4"/>
          <p:cNvSpPr/>
          <p:nvPr/>
        </p:nvSpPr>
        <p:spPr>
          <a:xfrm>
            <a:off x="1447920" y="4267080"/>
            <a:ext cx="6476760" cy="76212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9" dur="500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4" dur="500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9" dur="500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4" dur="500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9" dur="500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4" dur="500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9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4" dur="500"/>
                                        <p:tgtEl>
                                          <p:spTgt spid="9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9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Tw Cen MT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CALCULA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PARA LAS SIGUIENTES REACCIONES QUÍMICAS: </a:t>
            </a:r>
            <a:r>
              <a:rPr b="1" lang="es-ES_tradnl" sz="2500" spc="-1" strike="noStrike">
                <a:solidFill>
                  <a:srgbClr val="000000"/>
                </a:solidFill>
                <a:latin typeface="Tw Cen MT"/>
              </a:rPr>
              <a:t>A)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+ 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2 NO(G); </a:t>
            </a:r>
            <a:br>
              <a:rPr sz="2500"/>
            </a:br>
            <a:r>
              <a:rPr b="1" lang="es-ES_tradnl" sz="2500" spc="-1" strike="noStrike">
                <a:solidFill>
                  <a:srgbClr val="000000"/>
                </a:solidFill>
                <a:latin typeface="Tw Cen MT"/>
              </a:rPr>
              <a:t>B)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3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+ N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2 N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. </a:t>
            </a:r>
            <a:br>
              <a:rPr sz="2500"/>
            </a:br>
            <a:r>
              <a:rPr b="1" lang="es-ES_tradnl" sz="2500" spc="-1" strike="noStrike" u="sng">
                <a:solidFill>
                  <a:srgbClr val="000000"/>
                </a:solidFill>
                <a:uFillTx/>
                <a:latin typeface="Tw Cen MT"/>
              </a:rPr>
              <a:t>DATOS: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S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(J·MOL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–1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·K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–1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):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= 130,6; 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=205; N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= 191,5; NO(G) = 210,7; N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=192,3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2743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· 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PRODUCTOS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· 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REACTIVO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w Cen MT"/>
              </a:rPr>
              <a:t>A)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= 2 MOL · 210,7 J ·MOL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 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(191,5  J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+  205 J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) =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 </a:t>
            </a:r>
            <a:r>
              <a:rPr b="1" lang="es-ES_tradnl" sz="2800" spc="-1" strike="noStrike">
                <a:solidFill>
                  <a:srgbClr val="355071"/>
                </a:solidFill>
                <a:latin typeface="Tw Cen MT"/>
              </a:rPr>
              <a:t>24,9 J·K</a:t>
            </a:r>
            <a:r>
              <a:rPr b="1" lang="es-ES_tradnl" sz="2800" spc="-1" strike="noStrike" baseline="30000">
                <a:solidFill>
                  <a:srgbClr val="355071"/>
                </a:solidFill>
                <a:latin typeface="Tw Cen MT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w Cen MT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= 2·192,3 J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(3 MOL ·130,6 J· MOL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+ 191,5 J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) =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 </a:t>
            </a:r>
            <a:r>
              <a:rPr b="1" lang="es-ES_tradnl" sz="2800" spc="-1" strike="noStrike">
                <a:solidFill>
                  <a:srgbClr val="355071"/>
                </a:solidFill>
                <a:latin typeface="Tw Cen MT"/>
              </a:rPr>
              <a:t>–198,7 J·K</a:t>
            </a:r>
            <a:r>
              <a:rPr b="1" lang="es-ES_tradnl" sz="2800" spc="-1" strike="noStrike" baseline="30000">
                <a:solidFill>
                  <a:srgbClr val="355071"/>
                </a:solidFill>
                <a:latin typeface="Tw Cen MT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0" name="Rectangle 2"/>
          <p:cNvSpPr/>
          <p:nvPr/>
        </p:nvSpPr>
        <p:spPr>
          <a:xfrm>
            <a:off x="4976640" y="3762360"/>
            <a:ext cx="172908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5"/>
          <p:cNvSpPr/>
          <p:nvPr/>
        </p:nvSpPr>
        <p:spPr>
          <a:xfrm>
            <a:off x="7029360" y="4770360"/>
            <a:ext cx="201636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SEGUNDO PRINCIPIO DE LA TERMODINÁMICA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N CUALQUIER PROCESO ESPONTÁNEO LA ENTROPÍA TOTAL DEL UNIVERSO TIENDE A AUMENTAR SIEMPRE”.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UNIVERSO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EMA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+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NTORN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A VECES EL SISTEMA PIERDE ENTROPÍA (SE ORDENA) ESPONTÁNEAMENTE. EN DICHOS CASOS EL ENTORNO SE DESORDEN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0" dur="50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5" dur="500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0" dur="500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TERCER PRINCIPIO DE LA TERMODINÁMICA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LA ENTROPÍA DE CUALQUIER SUSTANCIA A 0 K ES IGUAL A 0” (MÁXIMO ORDEN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QUIVALE A DECIR QUE NO SE PUEDE BAJAR DE DICHA TEMPERATUR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w Cen MT"/>
              </a:rPr>
              <a:t>¡CUIDADO!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LAS S DE LOS ELEMENTOS EN CONDICIONES ESTÁNDAR NO SON 0 SINO QUE ES POSITIV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 txBox="1"/>
          <p:nvPr/>
        </p:nvSpPr>
        <p:spPr>
          <a:xfrm>
            <a:off x="6091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N </a:t>
            </a:r>
            <a:r>
              <a:rPr b="1" lang="es-ES_tradnl" sz="2000" spc="-1" strike="noStrike" u="sng">
                <a:solidFill>
                  <a:srgbClr val="355071"/>
                </a:solidFill>
                <a:uFillTx/>
                <a:latin typeface="Tw Cen MT"/>
              </a:rPr>
              <a:t>PROCESOS REVERSIBLES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Y A </a:t>
            </a:r>
            <a:r>
              <a:rPr b="1" lang="es-ES_tradnl" sz="2000" spc="-1" strike="noStrike" u="sng">
                <a:solidFill>
                  <a:srgbClr val="355071"/>
                </a:solidFill>
                <a:uFillTx/>
                <a:latin typeface="Tw Cen MT"/>
              </a:rPr>
              <a:t>TEMPERATURA CONSTANTE</a:t>
            </a:r>
            <a:r>
              <a:rPr b="1" lang="es-ES_tradnl" sz="2000" spc="-1" strike="noStrike">
                <a:solidFill>
                  <a:srgbClr val="355071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E PUEDE CALCULA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 DE UN SISTEMA COMO: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br>
              <a:rPr sz="2000"/>
            </a:b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 = —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Y SI EL PROCESO QUÍMICO SE PRODUCE A </a:t>
            </a:r>
            <a:r>
              <a:rPr b="1" lang="es-ES_tradnl" sz="2000" spc="-1" strike="noStrike" u="sng">
                <a:solidFill>
                  <a:srgbClr val="355071"/>
                </a:solidFill>
                <a:uFillTx/>
                <a:latin typeface="Tw Cen MT"/>
              </a:rPr>
              <a:t>PRESIÓN CONSTANTE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: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EM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–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EM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EMA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=  ———  ;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NTORNO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= ————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        T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                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ENTROPÍA MOLAR ESTÁNDAR) SE MIDE EN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J·MOL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REACCIÓN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SE MIDE EN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J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.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NERGÍA LIBRE DE GIBBS (G)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(ENERGÍA LIBRE O ENTALPÍA LIBRE)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495360" y="2387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N PROCESOS A T CONSTANTE SE DEFINE COMO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= H – T · S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H – T ·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N CONDICIONES ESTÁNDAR: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– T·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UNIVERSO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EMA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+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NTORNO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&gt; 0 (P. ESPONTÁNEOS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MULTIPLICANDO POR “–T” Y COMO “–T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NTORNO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T ·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UNIVERSO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– T ·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+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lt; 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N PROCESOS ESPONTÁNEOS: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lt; 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.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&gt; 0   LA REACCIÓN NO ES ESPONTÁNE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.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0 EL SISTEMA ESTÁ EN EQUILIBRI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9" name="Rectangle 4"/>
          <p:cNvSpPr/>
          <p:nvPr/>
        </p:nvSpPr>
        <p:spPr>
          <a:xfrm>
            <a:off x="838080" y="2158920"/>
            <a:ext cx="3657600" cy="45720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4876920" y="2158920"/>
            <a:ext cx="3657600" cy="45720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24912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SISTEMA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PARTE PEQUEÑA DEL UNIVERSO QUE SE AÍSLA PARA SOMETER A ESTUDIO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L RESTO SE DENOMINA </a:t>
            </a:r>
            <a:r>
              <a:rPr b="1" lang="es-ES_tradnl" sz="2400" spc="-1" strike="noStrike">
                <a:solidFill>
                  <a:srgbClr val="000000"/>
                </a:solidFill>
                <a:latin typeface="Tw Cen MT"/>
              </a:rPr>
              <a:t>ENTORNO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PUEDEN SER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3360" indent="-200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ABIERTOS (INTERCAMBIA MATERIA Y ENERGÍA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3360" indent="-200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CERRADOS (NO INTERCAMBIA MATERIA Y SÍ ENERGÍA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3360" indent="-200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AISLADOS (NO INTERCAMBIA NI MATERIA NI ENERGÍA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 REACCIONES QUÍMICAS...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SISTEMAS = SUSTANCIAS QUÍMIC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4" dur="2000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9" dur="1" fill="hold"/>
                                  <p:tgtEl>
                                    <p:spTgt spid="78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INCREMENTO DE ENERGÍA LIBRE DE UNA REACCIÓN (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G)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674640" y="2421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G ES UNA FUNCIÓN DE ESTADO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2400" indent="-212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AL IGUAL QUE EL INCREMENTO ENTÁLPICO EL INCREMENTO DE ENERGÍA LIBRE DE UNA REACCIÓN PUEDE OBTENERSE A PARTIR 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DE REACTIVOS Y PRODUCTO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2400" indent="-212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2400" indent="-2124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(PRODUCTOS)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–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(REACTIVO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2400" indent="-212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3" name="Rectangle 1028"/>
          <p:cNvSpPr/>
          <p:nvPr/>
        </p:nvSpPr>
        <p:spPr>
          <a:xfrm>
            <a:off x="838080" y="4800600"/>
            <a:ext cx="7467840" cy="1143000"/>
          </a:xfrm>
          <a:prstGeom prst="rect">
            <a:avLst/>
          </a:prstGeom>
          <a:noFill/>
          <a:ln w="12600">
            <a:solidFill>
              <a:srgbClr val="fee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NERGÍA LIBRE Y ESPONTANEIDAD 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DE LAS REACCIONES QUÍMICA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990360" y="1828800"/>
            <a:ext cx="3809880" cy="533520"/>
          </a:xfrm>
          <a:prstGeom prst="rect">
            <a:avLst/>
          </a:prstGeom>
          <a:noFill/>
          <a:ln w="12600">
            <a:solidFill>
              <a:srgbClr val="2fa3ee"/>
            </a:solidFill>
            <a:miter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REAC.  NO ESPONTÁNE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6" name="Text Box 5"/>
          <p:cNvSpPr/>
          <p:nvPr/>
        </p:nvSpPr>
        <p:spPr>
          <a:xfrm>
            <a:off x="1430280" y="485784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activ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7"/>
          <p:cNvSpPr/>
          <p:nvPr/>
        </p:nvSpPr>
        <p:spPr>
          <a:xfrm flipV="1">
            <a:off x="1265400" y="2927520"/>
            <a:ext cx="0" cy="248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Line 8"/>
          <p:cNvSpPr/>
          <p:nvPr/>
        </p:nvSpPr>
        <p:spPr>
          <a:xfrm>
            <a:off x="1265400" y="5410080"/>
            <a:ext cx="2809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9"/>
          <p:cNvSpPr/>
          <p:nvPr/>
        </p:nvSpPr>
        <p:spPr>
          <a:xfrm>
            <a:off x="1512720" y="4857840"/>
            <a:ext cx="11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Line 10"/>
          <p:cNvSpPr/>
          <p:nvPr/>
        </p:nvSpPr>
        <p:spPr>
          <a:xfrm>
            <a:off x="2835360" y="4030560"/>
            <a:ext cx="11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11"/>
          <p:cNvSpPr/>
          <p:nvPr/>
        </p:nvSpPr>
        <p:spPr>
          <a:xfrm rot="16200000">
            <a:off x="-172080" y="359424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ergía libre (G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12"/>
          <p:cNvSpPr/>
          <p:nvPr/>
        </p:nvSpPr>
        <p:spPr>
          <a:xfrm>
            <a:off x="2670120" y="3571920"/>
            <a:ext cx="14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13"/>
          <p:cNvSpPr/>
          <p:nvPr/>
        </p:nvSpPr>
        <p:spPr>
          <a:xfrm flipV="1">
            <a:off x="2257560" y="4030560"/>
            <a:ext cx="1157040" cy="827280"/>
          </a:xfrm>
          <a:prstGeom prst="line">
            <a:avLst/>
          </a:prstGeom>
          <a:ln w="38160">
            <a:solidFill>
              <a:srgbClr val="2fa3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14"/>
          <p:cNvSpPr/>
          <p:nvPr/>
        </p:nvSpPr>
        <p:spPr>
          <a:xfrm>
            <a:off x="2670120" y="4583160"/>
            <a:ext cx="190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 &gt; 0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17"/>
          <p:cNvSpPr/>
          <p:nvPr/>
        </p:nvSpPr>
        <p:spPr>
          <a:xfrm flipV="1">
            <a:off x="5253120" y="2914560"/>
            <a:ext cx="0" cy="2571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19"/>
          <p:cNvSpPr/>
          <p:nvPr/>
        </p:nvSpPr>
        <p:spPr>
          <a:xfrm>
            <a:off x="5253120" y="5486400"/>
            <a:ext cx="2994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20"/>
          <p:cNvSpPr/>
          <p:nvPr/>
        </p:nvSpPr>
        <p:spPr>
          <a:xfrm rot="16200000">
            <a:off x="3825000" y="381168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ergía libre  (G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21"/>
          <p:cNvSpPr/>
          <p:nvPr/>
        </p:nvSpPr>
        <p:spPr>
          <a:xfrm>
            <a:off x="5429160" y="3200400"/>
            <a:ext cx="176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activ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2"/>
          <p:cNvSpPr/>
          <p:nvPr/>
        </p:nvSpPr>
        <p:spPr>
          <a:xfrm>
            <a:off x="6926400" y="4819680"/>
            <a:ext cx="14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Line 23"/>
          <p:cNvSpPr/>
          <p:nvPr/>
        </p:nvSpPr>
        <p:spPr>
          <a:xfrm>
            <a:off x="5516640" y="3772080"/>
            <a:ext cx="132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Line 24"/>
          <p:cNvSpPr/>
          <p:nvPr/>
        </p:nvSpPr>
        <p:spPr>
          <a:xfrm>
            <a:off x="7013520" y="4724280"/>
            <a:ext cx="132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Line 25"/>
          <p:cNvSpPr/>
          <p:nvPr/>
        </p:nvSpPr>
        <p:spPr>
          <a:xfrm>
            <a:off x="6132600" y="3772080"/>
            <a:ext cx="1496880" cy="952200"/>
          </a:xfrm>
          <a:prstGeom prst="line">
            <a:avLst/>
          </a:prstGeom>
          <a:ln w="38160">
            <a:solidFill>
              <a:srgbClr val="2fa3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6"/>
          <p:cNvSpPr/>
          <p:nvPr/>
        </p:nvSpPr>
        <p:spPr>
          <a:xfrm>
            <a:off x="7013520" y="3581280"/>
            <a:ext cx="1409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 &lt; 0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27"/>
          <p:cNvSpPr/>
          <p:nvPr/>
        </p:nvSpPr>
        <p:spPr>
          <a:xfrm>
            <a:off x="5334120" y="1828800"/>
            <a:ext cx="3338280" cy="520560"/>
          </a:xfrm>
          <a:prstGeom prst="rect">
            <a:avLst/>
          </a:prstGeom>
          <a:noFill/>
          <a:ln w="12600">
            <a:solidFill>
              <a:srgbClr val="2fa3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55071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55071"/>
                </a:solidFill>
                <a:latin typeface="Times New Roman"/>
              </a:rPr>
              <a:t>Reac.   espontáne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28"/>
          <p:cNvSpPr/>
          <p:nvPr/>
        </p:nvSpPr>
        <p:spPr>
          <a:xfrm>
            <a:off x="1828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T, p = ctes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41"/>
          <p:cNvSpPr/>
          <p:nvPr/>
        </p:nvSpPr>
        <p:spPr>
          <a:xfrm>
            <a:off x="5791320" y="556272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T, p = ctes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SPONTANEIDAD 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N LAS REACCIONES QUÍMICAS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w Cen MT"/>
              </a:rPr>
              <a:t>NO SIEMPRE LAS REACCIONES EXOTÉRMICAS SON ESPONTÁNEAS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w Cen MT"/>
              </a:rPr>
              <a:t>HAY REACCIONES ENDOTÉRMICAS ESPONTÁNEAS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w Cen MT"/>
              </a:rPr>
              <a:t>EVAPORACIÓN DE LÍQUIDOS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w Cen MT"/>
              </a:rPr>
              <a:t>DISOLUCIÓN DE SALES..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55071"/>
                </a:solidFill>
                <a:latin typeface="Tw Cen MT"/>
              </a:rPr>
              <a:t>EJEMPLOS DE REACCIONES ENDOTÉRMICAS ESPONTÁNEAS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N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CL(S)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N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AQ) + CL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(AQ)  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 14’7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O(L) 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O(G) 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      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= 44’0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2" dur="500"/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7" dur="500"/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0" dur="500"/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3" dur="500"/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8" dur="500"/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3" dur="500"/>
                                        <p:tgtEl>
                                          <p:spTgt spid="9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8" dur="500"/>
                                        <p:tgtEl>
                                          <p:spTgt spid="9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SPONTANEIDAD DE LAS 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REACCIONES QUÍMICAS (CONT)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539280" y="1296720"/>
            <a:ext cx="860436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UNA REACCIÓN ES ESPONTÁNEA CUANDO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2000" spc="-1" strike="noStrike">
                <a:solidFill>
                  <a:srgbClr val="000000"/>
                </a:solidFill>
                <a:latin typeface="Tw Cen MT"/>
              </a:rPr>
              <a:t>G (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2000" spc="-1" strike="noStrike">
                <a:solidFill>
                  <a:srgbClr val="000000"/>
                </a:solidFill>
                <a:latin typeface="Tw Cen MT"/>
              </a:rPr>
              <a:t>H – T </a:t>
            </a: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X</a:t>
            </a:r>
            <a:r>
              <a:rPr b="0" i="1" lang="es-E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2000" spc="-1" strike="noStrike">
                <a:solidFill>
                  <a:srgbClr val="000000"/>
                </a:solidFill>
                <a:latin typeface="Tw Cen MT"/>
              </a:rPr>
              <a:t>S)</a:t>
            </a: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 ES NEGATIVO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SEGÚN SEAN POSITIVOS O NEGATIVOS LOS VALORES D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 Y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0" i="1" lang="es-ES" sz="2000" spc="-1" strike="noStrike">
                <a:solidFill>
                  <a:srgbClr val="000000"/>
                </a:solidFill>
                <a:latin typeface="Tw Cen MT"/>
              </a:rPr>
              <a:t>T</a:t>
            </a: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 SIEMPRE ES POSITIVA) SE CUMPLIRÁ QUE: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&lt; 0 Y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S &gt; 0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lt; 0 ESPONTÁNEA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&gt; 0 Y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S &lt; 0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gt; 0 NO ESPONTÁNE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&lt; 0 Y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S &lt; 0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lt; 0 A T BAJA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gt; 0 A T ALTA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&gt; 0 Y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S &gt; 0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lt; 0 A T ALTA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gt; 0 A T BAJA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49440" y="355680"/>
            <a:ext cx="777384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SPONTANEIDAD DE LAS 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REACCIONES QUÍMICAS (CONT)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2" name="Line 4"/>
          <p:cNvSpPr/>
          <p:nvPr/>
        </p:nvSpPr>
        <p:spPr>
          <a:xfrm flipV="1">
            <a:off x="4648320" y="1905120"/>
            <a:ext cx="0" cy="4038480"/>
          </a:xfrm>
          <a:prstGeom prst="line">
            <a:avLst/>
          </a:prstGeom>
          <a:ln w="12600">
            <a:solidFill>
              <a:srgbClr val="3550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5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12600">
            <a:solidFill>
              <a:srgbClr val="3550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6"/>
          <p:cNvSpPr/>
          <p:nvPr/>
        </p:nvSpPr>
        <p:spPr>
          <a:xfrm>
            <a:off x="5334120" y="1828800"/>
            <a:ext cx="2971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H &gt; 0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S &gt;  0</a:t>
            </a:r>
            <a:br>
              <a:rPr sz="2600"/>
            </a:b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Espontánea  a  temperaturas alta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Rectangle 8"/>
          <p:cNvSpPr/>
          <p:nvPr/>
        </p:nvSpPr>
        <p:spPr>
          <a:xfrm>
            <a:off x="1066680" y="1905120"/>
            <a:ext cx="3124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H &lt; 0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S &gt;  0</a:t>
            </a:r>
            <a:br>
              <a:rPr sz="2600"/>
            </a:b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Espontánea  a  todas las temperatura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Rectangle 10"/>
          <p:cNvSpPr/>
          <p:nvPr/>
        </p:nvSpPr>
        <p:spPr>
          <a:xfrm>
            <a:off x="1295280" y="4343400"/>
            <a:ext cx="2971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H &lt; 0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S &lt;  0</a:t>
            </a:r>
            <a:br>
              <a:rPr sz="2600"/>
            </a:b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Espontánea  a  temperaturas baja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11"/>
          <p:cNvSpPr/>
          <p:nvPr/>
        </p:nvSpPr>
        <p:spPr>
          <a:xfrm>
            <a:off x="5334120" y="4267080"/>
            <a:ext cx="3809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H &gt; 0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S &lt;  0</a:t>
            </a:r>
            <a:br>
              <a:rPr sz="2600"/>
            </a:b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No Espontánea  a  cualquier temperatura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Rectangle 12"/>
          <p:cNvSpPr/>
          <p:nvPr/>
        </p:nvSpPr>
        <p:spPr>
          <a:xfrm>
            <a:off x="1066680" y="1905120"/>
            <a:ext cx="1371600" cy="914400"/>
          </a:xfrm>
          <a:prstGeom prst="rect">
            <a:avLst/>
          </a:prstGeom>
          <a:noFill/>
          <a:ln w="12600">
            <a:solidFill>
              <a:srgbClr val="2fa3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13"/>
          <p:cNvSpPr/>
          <p:nvPr/>
        </p:nvSpPr>
        <p:spPr>
          <a:xfrm>
            <a:off x="5257800" y="1828800"/>
            <a:ext cx="1447920" cy="914400"/>
          </a:xfrm>
          <a:prstGeom prst="rect">
            <a:avLst/>
          </a:prstGeom>
          <a:noFill/>
          <a:ln w="12600">
            <a:solidFill>
              <a:srgbClr val="2fa3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Rectangle 14"/>
          <p:cNvSpPr/>
          <p:nvPr/>
        </p:nvSpPr>
        <p:spPr>
          <a:xfrm>
            <a:off x="1219320" y="4343400"/>
            <a:ext cx="1447560" cy="914400"/>
          </a:xfrm>
          <a:prstGeom prst="rect">
            <a:avLst/>
          </a:prstGeom>
          <a:noFill/>
          <a:ln w="12600">
            <a:solidFill>
              <a:srgbClr val="2fa3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Rectangle 15"/>
          <p:cNvSpPr/>
          <p:nvPr/>
        </p:nvSpPr>
        <p:spPr>
          <a:xfrm>
            <a:off x="5181480" y="4343400"/>
            <a:ext cx="1524240" cy="838080"/>
          </a:xfrm>
          <a:prstGeom prst="rect">
            <a:avLst/>
          </a:prstGeom>
          <a:noFill/>
          <a:ln w="12600">
            <a:solidFill>
              <a:srgbClr val="2fa3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17"/>
          <p:cNvSpPr/>
          <p:nvPr/>
        </p:nvSpPr>
        <p:spPr>
          <a:xfrm>
            <a:off x="7543800" y="4114800"/>
            <a:ext cx="76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355071"/>
                </a:solidFill>
                <a:latin typeface="Times New Roman"/>
              </a:rPr>
              <a:t>H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18"/>
          <p:cNvSpPr/>
          <p:nvPr/>
        </p:nvSpPr>
        <p:spPr>
          <a:xfrm>
            <a:off x="3886200" y="182880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355071"/>
                </a:solidFill>
                <a:latin typeface="Times New Roman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Comment 19"/>
          <p:cNvSpPr/>
          <p:nvPr/>
        </p:nvSpPr>
        <p:spPr>
          <a:xfrm rot="2091600">
            <a:off x="6982920" y="524520"/>
            <a:ext cx="1888920" cy="703800"/>
          </a:xfrm>
          <a:prstGeom prst="rect">
            <a:avLst/>
          </a:prstGeom>
          <a:solidFill>
            <a:srgbClr val="fb5bf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abe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Tw Cen MT"/>
              </a:rPr>
              <a:t>EJEMPLO: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¿SERÁ O NO ESPONTÁNEA LA SIGUIENTE REACCIÓN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2H</a:t>
            </a:r>
            <a:r>
              <a:rPr b="0" lang="es-ES_tradnl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(L)</a:t>
            </a:r>
            <a:r>
              <a:rPr b="0" lang="es-ES_tradnl" sz="29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2H</a:t>
            </a:r>
            <a:r>
              <a:rPr b="0" lang="es-ES_tradnl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9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(L) + O</a:t>
            </a:r>
            <a:r>
              <a:rPr b="0" lang="es-ES_tradnl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N CONDICIONES ESTÁNDAR? DATOS: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F 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KJ/MOL)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(L) =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  <a:ea typeface="Times New Roman"/>
              </a:rPr>
              <a:t>–285,8;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L) =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  <a:ea typeface="Times New Roman"/>
              </a:rPr>
              <a:t>–187,8 ;  S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 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J·MOL 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K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·1)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(L) =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  <a:ea typeface="Times New Roman"/>
              </a:rPr>
              <a:t>69,9;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L) = 109,6; 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=205,0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22860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(PRODUCTOS)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–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R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(REACTIVOS) 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= 2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O) +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O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) – 2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) =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2 MOL(–285,8 KJ/MOL) – 2 MOL(–187,8 KJ/MOL) </a:t>
            </a:r>
            <a:r>
              <a:rPr b="1" lang="es-ES_tradnl" sz="2200" spc="-1" strike="noStrike">
                <a:solidFill>
                  <a:srgbClr val="000000"/>
                </a:solidFill>
                <a:latin typeface="Tw Cen MT"/>
              </a:rPr>
              <a:t>= –196,0 KJ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baseline="30000">
                <a:solidFill>
                  <a:srgbClr val="000000"/>
                </a:solidFill>
                <a:latin typeface="Tw Cen MT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2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1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· S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PRODUCTOS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–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R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· S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REACTIVOS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=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2 S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O) + S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O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) –  2 S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) =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2 MOL(69,9 J/MOL·K) + 1 MOL(205, J/MOL·K)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– 2MOL(109,6 J/MOL·K) = 126,0 J / K </a:t>
            </a:r>
            <a:r>
              <a:rPr b="1" lang="es-ES_tradnl" sz="2200" spc="-1" strike="noStrike">
                <a:solidFill>
                  <a:srgbClr val="000000"/>
                </a:solidFill>
                <a:latin typeface="Tw Cen MT"/>
              </a:rPr>
              <a:t>= 0,126 KJ / K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– T ·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S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= –196,0 KJ – 298 K · 0,126 KJ/ K =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1" lang="es-ES_tradnl" sz="22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2200" spc="-1" strike="noStrike">
                <a:solidFill>
                  <a:srgbClr val="355071"/>
                </a:solidFill>
                <a:latin typeface="Tw Cen MT"/>
              </a:rPr>
              <a:t>G</a:t>
            </a:r>
            <a:r>
              <a:rPr b="1" lang="es-ES_tradnl" sz="2200" spc="-1" strike="noStrike" baseline="30000">
                <a:solidFill>
                  <a:srgbClr val="355071"/>
                </a:solidFill>
                <a:latin typeface="Tw Cen MT"/>
              </a:rPr>
              <a:t>0</a:t>
            </a:r>
            <a:r>
              <a:rPr b="1" lang="es-ES_tradnl" sz="2200" spc="-1" strike="noStrike">
                <a:solidFill>
                  <a:srgbClr val="355071"/>
                </a:solidFill>
                <a:latin typeface="Tw Cen MT"/>
              </a:rPr>
              <a:t> = – 233,5 KJ   LUEGO SERÁ ESPONTÁNE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DEFINICIÓN DE TERMOQUÍMICA.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685800" y="206064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180360" indent="-1803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S LA PARTE DE LA QUÍMICA QUE SE ENCARGA DEL ESTUDIO DEL INTERCAMBIO ENERGÉTICO DE UN SISTEMA QUÍMICO CON EL EXTERIOR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80360" indent="-1803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AY SISTEMAS QUÍMICOS QUE EVOLUCIONAN DE REACTIVOS A PRODUCTOS DESPRENDIENDO ENERGÍA. SON LAS REACCIONES 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EXOTÉRMICAS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80360" indent="-1803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OTROS SISTEMAS QUÍMICOS EVOLUCIONAN DE REACTIVOS A PRODUCTOS PRECISANDO ENERGÍA. SON LAS REACCIONES 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ENDOTÉRMICAS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80360" indent="-1803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VARIABLES DE ESTADO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MAGNITUDES QUE PUEDEN VARIAR A LO LARGO DE UN PROCESO 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(POR EJEMPLO, EN EL TRANSCURSO DE UNA REACCIÓN QUÍMICA)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683319"/>
                </a:solidFill>
                <a:uFillTx/>
                <a:latin typeface="Tw Cen MT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PRESIÓ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TEMPERATUR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VOLUME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CONCENTRACIÓN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3" dur="1" fill="hold"/>
                                  <p:tgtEl>
                                    <p:spTgt spid="7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214" dur="1" fill="hold"/>
                                  <p:tgtEl>
                                    <p:spTgt spid="7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215" dur="1" fill="hold"/>
                                  <p:tgtEl>
                                    <p:spTgt spid="7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216" dur="1" fill="hold"/>
                                  <p:tgtEl>
                                    <p:spTgt spid="7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217" dur="1" fill="hold"/>
                                  <p:tgtEl>
                                    <p:spTgt spid="7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FUNCIONES DE ESTADO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TIENEN UN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w Cen MT"/>
              </a:rPr>
              <a:t>VALOR ÚNICO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PARA CADA ESTADO DEL SISTEM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U VARIACIÓN SOLO DEPENDE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w Cen MT"/>
              </a:rPr>
              <a:t>DEL ESTADO INICIAL Y FINAL Y NO DEL CAMINO DESARROLLADO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w Cen MT"/>
              </a:rPr>
              <a:t>SÍ SON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: PRESIÓN, TEMPERATURA, ENERGÍA INTERNA, ENTALPÍ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w Cen MT"/>
              </a:rPr>
              <a:t>NO SON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: CALOR, TRABAJ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5" dur="1" fill="hold"/>
                                  <p:tgtEl>
                                    <p:spTgt spid="79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83319"/>
                </a:solidFill>
                <a:latin typeface="Tw Cen MT"/>
              </a:rPr>
              <a:t>PRIMER PRINCIPIO DE LA TERMODINÁMICA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3600" y="230184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ENERGÍA INTERNA (U)</a:t>
            </a:r>
            <a:br>
              <a:rPr sz="2000"/>
            </a:b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 ES LA ENERGÍA TOTAL </a:t>
            </a:r>
            <a:br>
              <a:rPr sz="2000"/>
            </a:b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DEL SISTEMA.</a:t>
            </a: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83319"/>
                </a:solidFill>
                <a:latin typeface="Tw Cen MT"/>
              </a:rPr>
              <a:t>ES IMPOSIBLE MEDIR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83319"/>
                </a:solidFill>
                <a:latin typeface="Tw Cen MT"/>
              </a:rPr>
              <a:t>SU VARIACIÓN SÍ SE MID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                 </a:t>
            </a:r>
            <a:r>
              <a:rPr b="1" lang="es-ES_tradnl" sz="2000" spc="-1" strike="noStrike">
                <a:solidFill>
                  <a:srgbClr val="683319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 </a:t>
            </a: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U = Q + 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83319"/>
                </a:solidFill>
                <a:latin typeface="Tw Cen MT"/>
              </a:rPr>
              <a:t>Q Y W &gt; 0 SI SE REALIZAN A FAVOR DEL SISTEM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U ES FUNCIÓN DE ESTADO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94" name="Group 17"/>
          <p:cNvGrpSpPr/>
          <p:nvPr/>
        </p:nvGrpSpPr>
        <p:grpSpPr>
          <a:xfrm>
            <a:off x="4295880" y="2362320"/>
            <a:ext cx="4848120" cy="2005560"/>
            <a:chOff x="4295880" y="2362320"/>
            <a:chExt cx="4848120" cy="2005560"/>
          </a:xfrm>
        </p:grpSpPr>
        <p:sp>
          <p:nvSpPr>
            <p:cNvPr id="795" name="Rectangle 4"/>
            <p:cNvSpPr/>
            <p:nvPr/>
          </p:nvSpPr>
          <p:spPr>
            <a:xfrm>
              <a:off x="5638680" y="2362320"/>
              <a:ext cx="2286000" cy="1981080"/>
            </a:xfrm>
            <a:prstGeom prst="rect">
              <a:avLst/>
            </a:prstGeom>
            <a:solidFill>
              <a:srgbClr val="f0d7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5"/>
            <p:cNvSpPr/>
            <p:nvPr/>
          </p:nvSpPr>
          <p:spPr>
            <a:xfrm>
              <a:off x="4572000" y="2895480"/>
              <a:ext cx="1676520" cy="0"/>
            </a:xfrm>
            <a:prstGeom prst="line">
              <a:avLst/>
            </a:prstGeom>
            <a:ln w="12600">
              <a:solidFill>
                <a:srgbClr val="68331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7"/>
            <p:cNvSpPr/>
            <p:nvPr/>
          </p:nvSpPr>
          <p:spPr>
            <a:xfrm>
              <a:off x="7238880" y="2895480"/>
              <a:ext cx="1676520" cy="0"/>
            </a:xfrm>
            <a:prstGeom prst="line">
              <a:avLst/>
            </a:prstGeom>
            <a:ln w="12600">
              <a:solidFill>
                <a:srgbClr val="68331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9"/>
            <p:cNvSpPr/>
            <p:nvPr/>
          </p:nvSpPr>
          <p:spPr>
            <a:xfrm flipH="1">
              <a:off x="4647960" y="3886200"/>
              <a:ext cx="1523880" cy="0"/>
            </a:xfrm>
            <a:prstGeom prst="line">
              <a:avLst/>
            </a:prstGeom>
            <a:ln w="12600">
              <a:solidFill>
                <a:srgbClr val="68331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10"/>
            <p:cNvSpPr/>
            <p:nvPr/>
          </p:nvSpPr>
          <p:spPr>
            <a:xfrm flipH="1">
              <a:off x="7238520" y="3886200"/>
              <a:ext cx="1676520" cy="0"/>
            </a:xfrm>
            <a:prstGeom prst="line">
              <a:avLst/>
            </a:prstGeom>
            <a:ln w="12600">
              <a:solidFill>
                <a:srgbClr val="68331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WordArt 11"/>
            <p:cNvSpPr txBox="1"/>
            <p:nvPr/>
          </p:nvSpPr>
          <p:spPr>
            <a:xfrm>
              <a:off x="5715000" y="3200400"/>
              <a:ext cx="2066760" cy="41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83319"/>
                  </a:solidFill>
                  <a:latin typeface="Arial Black"/>
                </a:rPr>
                <a:t>SISTEMA</a:t>
              </a:r>
              <a:endParaRPr b="1" lang="en-US" sz="2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83319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1" name="Text Box 12"/>
            <p:cNvSpPr/>
            <p:nvPr/>
          </p:nvSpPr>
          <p:spPr>
            <a:xfrm>
              <a:off x="4295880" y="2452680"/>
              <a:ext cx="15238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CALOR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  </a:t>
              </a: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Q &gt;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14"/>
            <p:cNvSpPr/>
            <p:nvPr/>
          </p:nvSpPr>
          <p:spPr>
            <a:xfrm>
              <a:off x="7772400" y="2514600"/>
              <a:ext cx="11430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CALOR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Q &lt;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Text Box 15"/>
            <p:cNvSpPr/>
            <p:nvPr/>
          </p:nvSpPr>
          <p:spPr>
            <a:xfrm>
              <a:off x="4324320" y="3459240"/>
              <a:ext cx="14479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TRABAJ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 </a:t>
              </a: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W &lt; 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Text Box 16"/>
            <p:cNvSpPr/>
            <p:nvPr/>
          </p:nvSpPr>
          <p:spPr>
            <a:xfrm>
              <a:off x="7696080" y="3505320"/>
              <a:ext cx="14479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TRABAJ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 </a:t>
              </a: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W &gt;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77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77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1" dur="2000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770"/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770" fill="hold"/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8" dur="770" fill="hold"/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0" dur="770" fill="hold"/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7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3" dur="1" fill="hold"/>
                                  <p:tgtEl>
                                    <p:spTgt spid="7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50560" y="619200"/>
            <a:ext cx="87138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ALOR A VOLUMEN CONSTANTE (Q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w Cen MT"/>
              </a:rPr>
              <a:t>V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576000" y="256536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ES EL INTERCAMBIO DE ENERGÍA EN UN RECIPIENTE CERRADO QUE NO CAMBIA DE VOLUMEN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SI V= CONSTANTE, ES DECIR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V = 0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W = 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Q</a:t>
            </a:r>
            <a:r>
              <a:rPr b="1" lang="es-ES_tradnl" sz="2400" spc="-1" strike="noStrike" baseline="-25000">
                <a:solidFill>
                  <a:srgbClr val="355071"/>
                </a:solidFill>
                <a:latin typeface="Tw Cen MT"/>
              </a:rPr>
              <a:t>V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 = </a:t>
            </a:r>
            <a:r>
              <a:rPr b="1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7" name="Rectangle 4"/>
          <p:cNvSpPr/>
          <p:nvPr/>
        </p:nvSpPr>
        <p:spPr>
          <a:xfrm>
            <a:off x="3780000" y="4076640"/>
            <a:ext cx="194436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5T21:16:56Z</dcterms:created>
  <dc:creator>Fco. Javier Gutiérrez</dc:creator>
  <dc:description/>
  <cp:keywords/>
  <dc:language>en-US</dc:language>
  <cp:lastModifiedBy>LIDIA MARTIN RONCO</cp:lastModifiedBy>
  <cp:lastPrinted>1998-10-08T09:53:56Z</cp:lastPrinted>
  <dcterms:modified xsi:type="dcterms:W3CDTF">2016-09-30T15:20:48Z</dcterms:modified>
  <cp:revision>115</cp:revision>
  <dc:subject/>
  <dc:title>TERMOQUÍMICA</dc:title>
</cp:coreProperties>
</file>